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247-DE40-45AB-A6F2-E996F02C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572-DD3F-4B2E-98D2-0C8C7896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565-A7AA-4055-A107-D7BD33FF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94D-4914-40EC-B01A-EECE6290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9A3-7613-4476-BC91-47ADF201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695-DDAA-480C-9AF1-EDCD6C27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EC0-8CA2-4ABB-8573-09855130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BB4-17D9-4D29-B05B-42D14575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1CD-6CE3-4A5A-A1D4-0892D759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6FC-F685-4953-985A-7502435B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C3D-0BFB-4E7D-9DEB-2E416F4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DB3-36DC-46D6-B764-A7282E08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BFA3-72D2-4E1D-BC7E-DE3959C51B78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tr/imgres?imgurl=http://www.ceyhantb.tobb.org.tr/ata150sw.jpg&amp;imgrefurl=http://www.ceyhantb.tobb.org.tr/ataturk.html&amp;usg=__4djlyF4YB58zvnifwJGGDQbbPiQ=&amp;h=609&amp;w=564&amp;sz=54&amp;hl=tr&amp;start=26&amp;um=1&amp;itbs=1&amp;tbnid=0ytugRjI3CJ4QM:&amp;tbnh=136&amp;tbnw=126&amp;prev=/images%3Fq%3Datat%25C3%25BCrk%2Bokumay%25C4%25B1%2Bseverdi%26start%3D20%26um%3D1%26hl%3Dtr%26sa%3DN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ahoma"/>
              </a:rPr>
              <a:t>MUSTAFA KEMAL</a:t>
            </a:r>
            <a:br>
              <a:rPr sz="6000"/>
            </a:br>
            <a:r>
              <a:rPr b="1" lang="tr-TR" sz="6000" spc="-1" strike="noStrike">
                <a:solidFill>
                  <a:srgbClr val="000000"/>
                </a:solidFill>
                <a:latin typeface="Tahoma"/>
              </a:rPr>
              <a:t>ATATÜRK’ÜN </a:t>
            </a:r>
            <a:br>
              <a:rPr sz="6000"/>
            </a:br>
            <a:r>
              <a:rPr b="1" lang="tr-TR" sz="6000" spc="-1" strike="noStrike">
                <a:solidFill>
                  <a:srgbClr val="000000"/>
                </a:solidFill>
                <a:latin typeface="Tahoma"/>
              </a:rPr>
              <a:t>HAYATI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ata150s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708280"/>
            <a:ext cx="280008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258920" y="5950080"/>
            <a:ext cx="6913440" cy="698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HAZIRLAYAN: BAHAR BAŞOĞLU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0600" y="2217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Mustafa daha sonra Askeri Liseyi kazandı ve  okudu. İstanbul Harp Akademisi’ni bitirdi. subay oldu. 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5" descr="subay"/>
          <p:cNvPicPr/>
          <p:nvPr/>
        </p:nvPicPr>
        <p:blipFill>
          <a:blip r:embed="rId1"/>
          <a:stretch/>
        </p:blipFill>
        <p:spPr>
          <a:xfrm>
            <a:off x="6948360" y="2492280"/>
            <a:ext cx="144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710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O yıllarda vatanımız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düşmanlar tarafından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işgal edilmişti.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Mustafa Kemal,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19 Mayıs 1919’da Samsun’a giderek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Kurtuluş Savaşı’nı başlattı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5" descr="subay"/>
          <p:cNvPicPr/>
          <p:nvPr/>
        </p:nvPicPr>
        <p:blipFill>
          <a:blip r:embed="rId1"/>
          <a:stretch/>
        </p:blipFill>
        <p:spPr>
          <a:xfrm>
            <a:off x="7164360" y="765000"/>
            <a:ext cx="144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10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23 Nisan’da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Türkiye Büyük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Millet Meclisi’ni açtı.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5" descr="subay"/>
          <p:cNvPicPr/>
          <p:nvPr/>
        </p:nvPicPr>
        <p:blipFill>
          <a:blip r:embed="rId1"/>
          <a:stretch/>
        </p:blipFill>
        <p:spPr>
          <a:xfrm>
            <a:off x="7164360" y="765000"/>
            <a:ext cx="144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710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29 Ekim 1923’te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cumhuriyeti ilan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etti.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Halk yönetimde söz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sahibi oldu.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5" descr="subay"/>
          <p:cNvPicPr/>
          <p:nvPr/>
        </p:nvPicPr>
        <p:blipFill>
          <a:blip r:embed="rId1"/>
          <a:stretch/>
        </p:blipFill>
        <p:spPr>
          <a:xfrm>
            <a:off x="7164360" y="765000"/>
            <a:ext cx="144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Atatürk vatanı ve milleti için çok çalıştı. Ülkemiz için pek çok yenilik yaptı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image"/>
          <p:cNvPicPr/>
          <p:nvPr/>
        </p:nvPicPr>
        <p:blipFill>
          <a:blip r:embed="rId1"/>
          <a:stretch/>
        </p:blipFill>
        <p:spPr>
          <a:xfrm>
            <a:off x="3276720" y="2924280"/>
            <a:ext cx="261936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350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Fabrikalar, okullar, yollar yaptı.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Alfabeyi yeniledi.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Ölçü birimlerini yeniledi.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Kılık kıyafette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yenilik yaptı.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Soyadı kanununu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çıkardı.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image"/>
          <p:cNvPicPr/>
          <p:nvPr/>
        </p:nvPicPr>
        <p:blipFill>
          <a:blip r:embed="rId1"/>
          <a:stretch/>
        </p:blipFill>
        <p:spPr>
          <a:xfrm>
            <a:off x="5861160" y="3094200"/>
            <a:ext cx="261936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Türk milleti Mustafa Kemal’e Atatürk soyadını verdi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2" descr="Başöğretmen Mustafa Kemal Atatürk ve 24 Kasım – Sözcü"/>
          <p:cNvPicPr/>
          <p:nvPr/>
        </p:nvPicPr>
        <p:blipFill>
          <a:blip r:embed="rId1"/>
          <a:stretch/>
        </p:blipFill>
        <p:spPr>
          <a:xfrm>
            <a:off x="1258920" y="2997360"/>
            <a:ext cx="6381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On kasım bin dokuz yüz otuz sekizde İstanbul’da Dolmabahçe Sarayı’nda yaşama veda etti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5" descr="dolmabahce-sarayi1_1"/>
          <p:cNvPicPr/>
          <p:nvPr/>
        </p:nvPicPr>
        <p:blipFill>
          <a:blip r:embed="rId1"/>
          <a:stretch/>
        </p:blipFill>
        <p:spPr>
          <a:xfrm>
            <a:off x="2268360" y="3301920"/>
            <a:ext cx="4319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ahoma"/>
              </a:rPr>
              <a:t>Atatürk’ün mezarı Ankara’da Anıtkabir’dedir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8" descr="http://img2.blogcu.com/images/d/i/y/diyarbekirli21/anitkabir-b.jpg"/>
          <p:cNvPicPr/>
          <p:nvPr/>
        </p:nvPicPr>
        <p:blipFill>
          <a:blip r:embed="rId1"/>
          <a:stretch/>
        </p:blipFill>
        <p:spPr>
          <a:xfrm>
            <a:off x="2050920" y="2565360"/>
            <a:ext cx="49690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Türkiye Cumhuriyeti’nin Kurucusu Mustafa Kemal Atatürk’tür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5" descr="ataturk"/>
          <p:cNvPicPr/>
          <p:nvPr/>
        </p:nvPicPr>
        <p:blipFill>
          <a:blip r:embed="rId1"/>
          <a:stretch/>
        </p:blipFill>
        <p:spPr>
          <a:xfrm>
            <a:off x="3132000" y="2349360"/>
            <a:ext cx="294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40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Tahoma"/>
              </a:rPr>
              <a:t>Atatürk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Tahoma"/>
              </a:rPr>
              <a:t>Bin sekiz yüz seksen bir yılında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Tahoma"/>
              </a:rPr>
              <a:t> Selanik’te doğdu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8" descr="007-yunan-"/>
          <p:cNvPicPr/>
          <p:nvPr/>
        </p:nvPicPr>
        <p:blipFill>
          <a:blip r:embed="rId1"/>
          <a:stretch/>
        </p:blipFill>
        <p:spPr>
          <a:xfrm>
            <a:off x="1476360" y="1916280"/>
            <a:ext cx="61833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İlk cumhurbaşkanımız ve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Başöğretmenimizdir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2" descr="Başöğretmen Mustafa Kemal Atatürk ve 24 Kasım – Sözcü"/>
          <p:cNvPicPr/>
          <p:nvPr/>
        </p:nvPicPr>
        <p:blipFill>
          <a:blip r:embed="rId1"/>
          <a:stretch/>
        </p:blipFill>
        <p:spPr>
          <a:xfrm>
            <a:off x="1476360" y="2852640"/>
            <a:ext cx="6381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tr-TR" sz="5400" spc="-1" strike="noStrike">
                <a:solidFill>
                  <a:srgbClr val="000000"/>
                </a:solidFill>
                <a:latin typeface="Tahoma"/>
              </a:rPr>
              <a:t>Atatürk çocukları çok severdi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5" descr="atavelk2ak5.jpg"/>
          <p:cNvPicPr/>
          <p:nvPr/>
        </p:nvPicPr>
        <p:blipFill>
          <a:blip r:embed="rId1"/>
          <a:stretch/>
        </p:blipFill>
        <p:spPr>
          <a:xfrm>
            <a:off x="2771640" y="1916280"/>
            <a:ext cx="327348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Kitap okumayı çok severdi.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5" descr="15092007010504ataturk"/>
          <p:cNvPicPr/>
          <p:nvPr/>
        </p:nvPicPr>
        <p:blipFill>
          <a:blip r:embed="rId1"/>
          <a:stretch/>
        </p:blipFill>
        <p:spPr>
          <a:xfrm>
            <a:off x="2340000" y="1773360"/>
            <a:ext cx="4464000" cy="3660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187280" y="5805360"/>
            <a:ext cx="6913800" cy="698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HAZIRLAYAN: BAHAR BAŞOĞLU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ahoma"/>
              </a:rPr>
              <a:t>Annesi Zübeyde Hanım’dır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Picture 5" descr="zubeyde_hanim"/>
          <p:cNvPicPr/>
          <p:nvPr/>
        </p:nvPicPr>
        <p:blipFill>
          <a:blip r:embed="rId1"/>
          <a:stretch/>
        </p:blipFill>
        <p:spPr>
          <a:xfrm>
            <a:off x="2411280" y="1268280"/>
            <a:ext cx="401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Babası Ali Rıza Efendi’dir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ali-riza-efendi-buyuk-1"/>
          <p:cNvPicPr/>
          <p:nvPr/>
        </p:nvPicPr>
        <p:blipFill>
          <a:blip r:embed="rId1"/>
          <a:stretch/>
        </p:blipFill>
        <p:spPr>
          <a:xfrm>
            <a:off x="2484360" y="1197000"/>
            <a:ext cx="3905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ahoma"/>
              </a:rPr>
              <a:t>Kız Kardeşi Makbule Hanım’dır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5" descr="atamizin_kizkardesi_makbule_atatadan"/>
          <p:cNvPicPr/>
          <p:nvPr/>
        </p:nvPicPr>
        <p:blipFill>
          <a:blip r:embed="rId1"/>
          <a:stretch/>
        </p:blipFill>
        <p:spPr>
          <a:xfrm>
            <a:off x="2627280" y="1773360"/>
            <a:ext cx="3646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61616"/>
                </a:solidFill>
                <a:latin typeface="Tahoma"/>
              </a:rPr>
              <a:t>Mustafa annesinin isteği üzerine önce Mahalle Mektebi’ne gitti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61616"/>
                </a:solidFill>
                <a:latin typeface="Tahoma"/>
              </a:rPr>
              <a:t>Sonra babasının isteği ile Şemsi Efendi İlkokulu’na başladı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2" descr="Ata'nın okulu hâlâ açık - Son Dakika Haberleri İnternet"/>
          <p:cNvPicPr/>
          <p:nvPr/>
        </p:nvPicPr>
        <p:blipFill>
          <a:blip r:embed="rId1"/>
          <a:stretch/>
        </p:blipFill>
        <p:spPr>
          <a:xfrm>
            <a:off x="4140360" y="4149720"/>
            <a:ext cx="41400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Atatürk Şemsi Efendi İlkokulu’nda okurken, 7 yaşındayken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babasını kaybetti. Bir süre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ahoma"/>
              </a:rPr>
              <a:t>dayısının yanında yaşadılar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ocukluu"/>
          <p:cNvPicPr/>
          <p:nvPr/>
        </p:nvPicPr>
        <p:blipFill>
          <a:blip r:embed="rId1"/>
          <a:stretch/>
        </p:blipFill>
        <p:spPr>
          <a:xfrm>
            <a:off x="4356000" y="37893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19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ahoma"/>
              </a:rPr>
              <a:t>Annesi Mustafa’nın okula tekrar gitmesini istediği için Mustafa’yı teyzesinin yanına gönderdi. </a:t>
            </a:r>
            <a:r>
              <a:rPr b="0" lang="tr-TR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tr-TR" sz="4000" spc="-1" strike="noStrike">
                <a:solidFill>
                  <a:srgbClr val="161616"/>
                </a:solidFill>
                <a:latin typeface="Tahoma"/>
              </a:rPr>
              <a:t>Mustafa sınavı kazanarak Askeri Ortaokul ’da okumaya </a:t>
            </a:r>
            <a:br>
              <a:rPr sz="4000"/>
            </a:br>
            <a:r>
              <a:rPr b="0" lang="tr-TR" sz="4000" spc="-1" strike="noStrike">
                <a:solidFill>
                  <a:srgbClr val="161616"/>
                </a:solidFill>
                <a:latin typeface="Tahoma"/>
              </a:rPr>
              <a:t>başladı.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kopyasatasubayla"/>
          <p:cNvPicPr/>
          <p:nvPr/>
        </p:nvPicPr>
        <p:blipFill>
          <a:blip r:embed="rId1"/>
          <a:stretch/>
        </p:blipFill>
        <p:spPr>
          <a:xfrm>
            <a:off x="5076720" y="4092480"/>
            <a:ext cx="348156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ahoma"/>
              </a:rPr>
              <a:t>Mustafa çok zeki bir öğrenciydi. Matematik öğretmeni ona Kemal adını verdi ve adı Mustafa Kemal oldu.</a:t>
            </a:r>
            <a:r>
              <a:rPr b="0" lang="tr-TR" sz="4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4" descr="kopyasatasubayla"/>
          <p:cNvPicPr/>
          <p:nvPr/>
        </p:nvPicPr>
        <p:blipFill>
          <a:blip r:embed="rId1"/>
          <a:stretch/>
        </p:blipFill>
        <p:spPr>
          <a:xfrm>
            <a:off x="2771640" y="35733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0:15:33Z</dcterms:created>
  <dc:creator>hssgm</dc:creator>
  <dc:description/>
  <dc:language>en-US</dc:language>
  <cp:lastModifiedBy>Buro</cp:lastModifiedBy>
  <dcterms:modified xsi:type="dcterms:W3CDTF">2022-03-31T12:47:35Z</dcterms:modified>
  <cp:revision>20</cp:revision>
  <dc:subject/>
  <dc:title>Slayt 1</dc:title>
</cp:coreProperties>
</file>