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97A4-487E-48AE-A6F6-1238C2189B6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528F-2ECB-4E73-BC26-8B35C0DDA7D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AE8-F06B-4720-84CF-9821FFE9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C3C-7070-483D-B12C-3DB93BB3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0D7-38FC-4582-BE86-F7E86874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5C2-6218-44B0-9DED-99560564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1779-26A7-4601-949A-1734BA99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D3F-BEC5-40E7-BD8C-EDB13C7C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BB92-C6F9-4427-84FC-C9F53CA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6710-2AE2-49C9-8C0A-15B5FCB2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C498-02C0-41FC-BD16-7FFDB73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93D9-93D9-4605-805A-44BBA3F6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BA57-3DE7-48B8-81D1-8E7FEC5D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4B5-53CA-433E-BB93-590B2308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EF48-3125-4CAA-BDDC-6963232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5253-61BA-45EA-9C1F-7F8245D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A3EF-7B3A-469F-8D3B-10E7BCB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133A-74F5-4B02-8D7F-854CC82F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F539-9F1F-4162-B9C2-999B6444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7B5-FBAA-42F1-BCBA-4FB539E4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23D-B739-4FD7-813D-7A47C925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BD6-F4BA-49F1-BAA4-BDC0C4D0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327-451E-4032-B18F-60FC97C5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FAD-993B-416F-9233-62E52BBE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1AA-C9E3-42C7-966A-D5F2E770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069-2BF4-439A-A78E-F78E0FD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70FC-C9CF-45D0-A4A9-95818D35532E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1638360" y="142920"/>
            <a:ext cx="5076720" cy="352440"/>
          </a:xfrm>
          <a:prstGeom prst="rect">
            <a:avLst/>
          </a:prstGeom>
          <a:ln w="0">
            <a:noFill/>
          </a:ln>
        </p:spPr>
      </p:pic>
      <p:pic>
        <p:nvPicPr>
          <p:cNvPr id="42" name="7 Resim" descr="sanli14.jpg"/>
          <p:cNvPicPr/>
          <p:nvPr/>
        </p:nvPicPr>
        <p:blipFill>
          <a:blip r:embed="rId3"/>
          <a:stretch/>
        </p:blipFill>
        <p:spPr>
          <a:xfrm rot="20062200">
            <a:off x="8717040" y="6567120"/>
            <a:ext cx="399960" cy="214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4620-0C4D-4225-98C7-1A0B5458153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Dikdörtgen"/>
          <p:cNvSpPr/>
          <p:nvPr/>
        </p:nvSpPr>
        <p:spPr>
          <a:xfrm>
            <a:off x="214200" y="642960"/>
            <a:ext cx="871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Yandaki görseli incele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yelim.Dünya’nın             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                                 yüzeyinden merkezine          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                                  doğru bir yolculuk   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      yapabilseydik çeşi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katmanlarla karşılaşır-dık . Dünya’nın yüzey ve iç kısmında bulunan katmanların neler olduğunu daha iyi kavra-mak için “</a:t>
            </a:r>
            <a:r>
              <a:rPr b="0" lang="tr-TR" sz="3600" spc="-1" strike="noStrike">
                <a:solidFill>
                  <a:srgbClr val="ff0000"/>
                </a:solidFill>
                <a:latin typeface="Calibri"/>
              </a:rPr>
              <a:t>Dünya’nın Katmanları</a:t>
            </a: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” isimli etkinliği yapalı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4533840" cy="3419280"/>
          </a:xfrm>
          <a:prstGeom prst="rect">
            <a:avLst/>
          </a:prstGeom>
          <a:ln w="0">
            <a:noFill/>
          </a:ln>
        </p:spPr>
      </p:pic>
      <p:sp>
        <p:nvSpPr>
          <p:cNvPr id="93" name="Metin kutusu 1"/>
          <p:cNvSpPr/>
          <p:nvPr/>
        </p:nvSpPr>
        <p:spPr>
          <a:xfrm>
            <a:off x="4716360" y="5877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3952800" cy="847800"/>
          </a:xfrm>
          <a:prstGeom prst="rect">
            <a:avLst/>
          </a:prstGeom>
          <a:ln w="0">
            <a:noFill/>
          </a:ln>
        </p:spPr>
      </p:pic>
      <p:sp>
        <p:nvSpPr>
          <p:cNvPr id="95" name="3 Dikdörtgen"/>
          <p:cNvSpPr/>
          <p:nvPr/>
        </p:nvSpPr>
        <p:spPr>
          <a:xfrm>
            <a:off x="142920" y="1357200"/>
            <a:ext cx="8501040" cy="50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Calibri"/>
              </a:rPr>
              <a:t>Gerekli Malzemeler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 sarı, turuncu, kırmızı kahverengi, m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 yeşil oyun hamurları, plastik bıç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Amaç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ünya’nın şekli ve bazı katmanları ile ilgili bi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zırla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Calibri"/>
              </a:rPr>
              <a:t>İzlenecek Y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rmızı oyun hamurundan bilye büyüklüğünde bir parçayı koparıp yuvarlayarak küre şekline getirel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uruncu oyun hamurundan kırmızı hamuruna göre daha büyük bir parçayı alıp elimizle düzleştirelim. Görseldeki gibi içine kırmızı küreyi koyup ikisini beraber yuvarlayalım ve küre şekline getirel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ynı işlemleri sarının içine turuncu, kahverenginin içine sarı oyun hamuru olacak şekilde tekrarlayalı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4-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hverengi oyun hamurunun üzerine Dünya modeline bakarak yeşil ve mavi oyun hamurlarını yapıştıralı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odeli plastik bıçakla kesel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 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SONUÇ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odeli yaparken kullandığımız farklı renkteki oyun hamurları neleri temsil etmekted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 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odeli yaparken oyun hamurlarını ne-den küre şekline getird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rcRect l="6978" t="9088" r="13956" b="6070"/>
          <a:stretch/>
        </p:blipFill>
        <p:spPr>
          <a:xfrm>
            <a:off x="6286680" y="642960"/>
            <a:ext cx="2428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357800" y="428760"/>
            <a:ext cx="4532040" cy="314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224240" y="3643200"/>
            <a:ext cx="4919760" cy="3214800"/>
          </a:xfrm>
          <a:prstGeom prst="rect">
            <a:avLst/>
          </a:prstGeom>
          <a:ln w="0">
            <a:noFill/>
          </a:ln>
        </p:spPr>
      </p:pic>
      <p:sp>
        <p:nvSpPr>
          <p:cNvPr id="99" name="4 Dikdörtgen"/>
          <p:cNvSpPr/>
          <p:nvPr/>
        </p:nvSpPr>
        <p:spPr>
          <a:xfrm>
            <a:off x="285840" y="571680"/>
            <a:ext cx="5143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İkiye bölünmüş bir erik veya kayısı düşünelim. Görsellerde de gördüğümüz gibi meyveler kabuk, iç kısım ve ortasındaki çekirdekten meydana gelmektedir. Dünya meyveler gibi bazı kısımlardan yani katmanlardan oluşmaktad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901360" cy="5443560"/>
          </a:xfrm>
          <a:prstGeom prst="rect">
            <a:avLst/>
          </a:prstGeom>
          <a:ln w="0">
            <a:noFill/>
          </a:ln>
        </p:spPr>
      </p:pic>
      <p:sp>
        <p:nvSpPr>
          <p:cNvPr id="101" name="2 Dikdörtgen"/>
          <p:cNvSpPr/>
          <p:nvPr/>
        </p:nvSpPr>
        <p:spPr>
          <a:xfrm>
            <a:off x="142920" y="78588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İç çekirdek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Dünya’nın merkezinde 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lan bu katman en sıcak katman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Dış çekirdek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ç çekirdeği saran katmandır. Sıcaklığı iç çekirdekten daha  azdır.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Manto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Dış çekirdek ile yer kabuğu arasında yer alır. Yapısında erimiş kayaların oluşturduğu magma bulunur.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Yer kabuğu: 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Dünya’nın yüzeyini oluşturan ve canlıların yaşadığı katmandır. Bu katmana </a:t>
            </a:r>
            <a:r>
              <a:rPr b="1" lang="tr-TR" sz="3200" spc="-1" strike="noStrike">
                <a:solidFill>
                  <a:srgbClr val="ff0000"/>
                </a:solidFill>
                <a:latin typeface="Calibri"/>
              </a:rPr>
              <a:t>kara katmanı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 da denir. Bu katman deniz ve okyanus diplerinde ince, karaların olduğu bölgelerde daha kalın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6786720" y="71280"/>
            <a:ext cx="22190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Dikdörtgen"/>
          <p:cNvSpPr/>
          <p:nvPr/>
        </p:nvSpPr>
        <p:spPr>
          <a:xfrm>
            <a:off x="142920" y="42876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şağıda görseli verilen elmayı Dünya olarak düşününü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lmanın numa ralandırılarak  verilen kısımlarını temsil ettiği katman isimleri ile eşleştiriniz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3980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6 Dikdörtgen"/>
          <p:cNvSpPr/>
          <p:nvPr/>
        </p:nvSpPr>
        <p:spPr>
          <a:xfrm>
            <a:off x="6215040" y="3357720"/>
            <a:ext cx="257184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5929200" y="5500800"/>
            <a:ext cx="2357640" cy="668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000840" y="4929120"/>
            <a:ext cx="1569960" cy="52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6072120" y="4214880"/>
            <a:ext cx="2392560" cy="628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6000840" y="3571920"/>
            <a:ext cx="25653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500040"/>
            <a:ext cx="8643960" cy="9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295560" cy="31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500040" y="1928880"/>
            <a:ext cx="1714680" cy="399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4"/>
          <a:stretch/>
        </p:blipFill>
        <p:spPr>
          <a:xfrm>
            <a:off x="4214880" y="1643040"/>
            <a:ext cx="4667040" cy="1209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5"/>
          <a:stretch/>
        </p:blipFill>
        <p:spPr>
          <a:xfrm>
            <a:off x="214200" y="3500280"/>
            <a:ext cx="390600" cy="3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6"/>
          <a:stretch/>
        </p:blipFill>
        <p:spPr>
          <a:xfrm>
            <a:off x="571680" y="3429000"/>
            <a:ext cx="1285560" cy="476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7"/>
          <a:stretch/>
        </p:blipFill>
        <p:spPr>
          <a:xfrm>
            <a:off x="4214880" y="3000240"/>
            <a:ext cx="47242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8"/>
          <a:stretch/>
        </p:blipFill>
        <p:spPr>
          <a:xfrm>
            <a:off x="142920" y="4572000"/>
            <a:ext cx="466560" cy="3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9"/>
          <a:stretch/>
        </p:blipFill>
        <p:spPr>
          <a:xfrm>
            <a:off x="571680" y="4500720"/>
            <a:ext cx="1895400" cy="48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10"/>
          <a:stretch/>
        </p:blipFill>
        <p:spPr>
          <a:xfrm>
            <a:off x="4357800" y="4286160"/>
            <a:ext cx="4500360" cy="12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11"/>
          <a:stretch/>
        </p:blipFill>
        <p:spPr>
          <a:xfrm>
            <a:off x="0" y="6000840"/>
            <a:ext cx="514440" cy="35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12"/>
          <a:stretch/>
        </p:blipFill>
        <p:spPr>
          <a:xfrm>
            <a:off x="500040" y="6000840"/>
            <a:ext cx="26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3"/>
          <a:stretch/>
        </p:blipFill>
        <p:spPr>
          <a:xfrm>
            <a:off x="4286160" y="5643720"/>
            <a:ext cx="4505400" cy="847440"/>
          </a:xfrm>
          <a:prstGeom prst="rect">
            <a:avLst/>
          </a:prstGeom>
          <a:ln w="0">
            <a:noFill/>
          </a:ln>
        </p:spPr>
      </p:pic>
      <p:cxnSp>
        <p:nvCxnSpPr>
          <p:cNvPr id="123" name="15 Düz Ok Bağlayıcısı"/>
          <p:cNvCxnSpPr/>
          <p:nvPr/>
        </p:nvCxnSpPr>
        <p:spPr>
          <a:xfrm>
            <a:off x="2214360" y="2128680"/>
            <a:ext cx="2143800" cy="2766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oval" w="med"/>
            <a:tailEnd len="lg" type="triangle" w="lg"/>
          </a:ln>
        </p:spPr>
      </p:cxnSp>
      <p:cxnSp>
        <p:nvCxnSpPr>
          <p:cNvPr id="124" name="16 Düz Ok Bağlayıcısı"/>
          <p:cNvCxnSpPr/>
          <p:nvPr/>
        </p:nvCxnSpPr>
        <p:spPr>
          <a:xfrm>
            <a:off x="1928520" y="3714480"/>
            <a:ext cx="2500920" cy="2429640"/>
          </a:xfrm>
          <a:prstGeom prst="straightConnector1">
            <a:avLst/>
          </a:prstGeom>
          <a:ln w="76320">
            <a:solidFill>
              <a:srgbClr val="00b050"/>
            </a:solidFill>
            <a:miter/>
            <a:headEnd len="med" type="oval" w="med"/>
            <a:tailEnd len="lg" type="triangle" w="lg"/>
          </a:ln>
        </p:spPr>
      </p:cxnSp>
      <p:cxnSp>
        <p:nvCxnSpPr>
          <p:cNvPr id="125" name="18 Düz Ok Bağlayıcısı"/>
          <p:cNvCxnSpPr/>
          <p:nvPr/>
        </p:nvCxnSpPr>
        <p:spPr>
          <a:xfrm flipV="1">
            <a:off x="2357280" y="3609360"/>
            <a:ext cx="1858320" cy="1176840"/>
          </a:xfrm>
          <a:prstGeom prst="straightConnector1">
            <a:avLst/>
          </a:prstGeom>
          <a:ln w="76320">
            <a:solidFill>
              <a:srgbClr val="0070c0"/>
            </a:solidFill>
            <a:miter/>
            <a:headEnd len="med" type="oval" w="med"/>
            <a:tailEnd len="lg" type="triangle" w="lg"/>
          </a:ln>
        </p:spPr>
      </p:cxnSp>
      <p:cxnSp>
        <p:nvCxnSpPr>
          <p:cNvPr id="126" name="20 Düz Ok Bağlayıcısı"/>
          <p:cNvCxnSpPr/>
          <p:nvPr/>
        </p:nvCxnSpPr>
        <p:spPr>
          <a:xfrm flipV="1">
            <a:off x="3214800" y="2142360"/>
            <a:ext cx="1000800" cy="4034520"/>
          </a:xfrm>
          <a:prstGeom prst="straightConnector1">
            <a:avLst/>
          </a:prstGeom>
          <a:ln w="76320">
            <a:solidFill>
              <a:srgbClr val="948a54"/>
            </a:solidFill>
            <a:miter/>
            <a:headEnd len="med" type="oval" w="med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3T19:48:59Z</dcterms:created>
  <dc:creator>USER</dc:creator>
  <dc:description/>
  <dc:language>en-US</dc:language>
  <cp:lastModifiedBy>Buro</cp:lastModifiedBy>
  <dcterms:modified xsi:type="dcterms:W3CDTF">2020-09-24T07:07:01Z</dcterms:modified>
  <cp:revision>19</cp:revision>
  <dc:subject/>
  <dc:title>Slayt 1</dc:title>
</cp:coreProperties>
</file>