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EE6-18F7-4D10-917D-E5899C5E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27F-CECE-4194-A51B-CDEF046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056-6499-4A15-9781-3275D533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D1B-42DE-4828-92A5-7A4CD466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55F-C24F-4030-9864-C4B6398C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E7EB-C6AC-4D22-8148-DB303127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744C-B0C6-46CF-B51C-12EC3EE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C95B-2547-4AC0-8B94-E3A9DE02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16B0-5075-4141-9625-4DBAFF4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180-2508-4716-839B-B4DF8A1F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1374-1649-47B6-BEC5-5ECAD99A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AF1-0EBF-4357-9D84-4F3AA7A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E440-E4F5-4220-B758-ED0260D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9642-7528-4415-80D1-0ACA9AF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E574-F10F-4791-A241-2E5C136E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114C-43F2-48BF-8719-D03BB1FE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DC0-1000-4D73-860B-125EBC7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2FB-9138-4704-81B1-3BF340AB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0F8-2E63-43DE-B022-AABE927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B72-1A6A-414E-A94C-49E072C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0BE-41A0-42A7-8558-7D0CC1B4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368-A84A-4CF4-87D9-2956787E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750-0CD7-4768-BA77-353123C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1D0-C504-418E-B265-9958E320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4D88-A0F7-4DBA-A148-297405A46C61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8409-B749-4C06-915A-BBE9129E7C3E}" type="slidenum">
              <a:rPr b="0" lang="tr-T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sim 15" descr=""/>
          <p:cNvPicPr/>
          <p:nvPr/>
        </p:nvPicPr>
        <p:blipFill>
          <a:blip r:embed="rId1"/>
          <a:stretch/>
        </p:blipFill>
        <p:spPr>
          <a:xfrm>
            <a:off x="4495680" y="914400"/>
            <a:ext cx="1251000" cy="1246320"/>
          </a:xfrm>
          <a:prstGeom prst="rect">
            <a:avLst/>
          </a:prstGeom>
          <a:ln w="0">
            <a:noFill/>
          </a:ln>
        </p:spPr>
      </p:pic>
      <p:pic>
        <p:nvPicPr>
          <p:cNvPr id="152" name="5 Resim" descr="Yeni Resim (5).bmp"/>
          <p:cNvPicPr/>
          <p:nvPr/>
        </p:nvPicPr>
        <p:blipFill>
          <a:blip r:embed="rId2"/>
          <a:stretch/>
        </p:blipFill>
        <p:spPr>
          <a:xfrm>
            <a:off x="6324480" y="838080"/>
            <a:ext cx="1154160" cy="1257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8"/>
          <p:cNvSpPr/>
          <p:nvPr/>
        </p:nvSpPr>
        <p:spPr>
          <a:xfrm>
            <a:off x="1600200" y="304920"/>
            <a:ext cx="2556000" cy="2209680"/>
          </a:xfrm>
          <a:prstGeom prst="roundRect">
            <a:avLst>
              <a:gd name="adj" fmla="val 16667"/>
            </a:avLst>
          </a:prstGeom>
          <a:solidFill>
            <a:srgbClr val="365f91"/>
          </a:soli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286000" y="1219320"/>
            <a:ext cx="1141560" cy="261720"/>
          </a:xfrm>
          <a:prstGeom prst="rect">
            <a:avLst/>
          </a:prstGeom>
          <a:solidFill>
            <a:srgbClr val="365f91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Times New Roman"/>
              </a:rPr>
              <a:t>MAVİ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609480" y="2743200"/>
            <a:ext cx="7848720" cy="25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Narrow"/>
              </a:rPr>
              <a:t>MAVİ BEZ-MAVİ KOVA-MAVİ ELDİVEN: Masa, etajer, yatak, cam önü, cam ve kapı kolları, çalışma ofisi vb. temiz alanlarda kullanılı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1066680" y="457200"/>
            <a:ext cx="3011760" cy="2133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Resim 1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1257480" cy="1251000"/>
          </a:xfrm>
          <a:prstGeom prst="rect">
            <a:avLst/>
          </a:prstGeom>
          <a:ln w="0">
            <a:noFill/>
          </a:ln>
        </p:spPr>
      </p:pic>
      <p:pic>
        <p:nvPicPr>
          <p:cNvPr id="158" name="7 Resim" descr="Yeni Resim (6).bmp"/>
          <p:cNvPicPr/>
          <p:nvPr/>
        </p:nvPicPr>
        <p:blipFill>
          <a:blip r:embed="rId2"/>
          <a:stretch/>
        </p:blipFill>
        <p:spPr>
          <a:xfrm>
            <a:off x="5791320" y="1066680"/>
            <a:ext cx="1154160" cy="1187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447920" y="1371600"/>
            <a:ext cx="22096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AR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62120" y="2743200"/>
            <a:ext cx="7696080" cy="251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SARI BEZ-SARI KOVA-SAR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ve banyolardaki 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duş teknesi, küvet, fayans,  ayna, bataryalar, kağıt dağıtıcıları, kapı kolları ve elektrik armatürleri  temizliğinde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1447920" y="609480"/>
            <a:ext cx="2630520" cy="1944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Resim 24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123804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9 Resim" descr="Yeni Resim (4).bmp"/>
          <p:cNvPicPr/>
          <p:nvPr/>
        </p:nvPicPr>
        <p:blipFill>
          <a:blip r:embed="rId2"/>
          <a:stretch/>
        </p:blipFill>
        <p:spPr>
          <a:xfrm>
            <a:off x="5943600" y="1295280"/>
            <a:ext cx="1133640" cy="125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1600200" y="1447920"/>
            <a:ext cx="2362320" cy="380880"/>
          </a:xfrm>
          <a:prstGeom prst="rect">
            <a:avLst/>
          </a:prstGeom>
          <a:solidFill>
            <a:srgbClr val="c00000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KIRMIZI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7200" y="3048120"/>
            <a:ext cx="7696080" cy="2514600"/>
          </a:xfrm>
          <a:prstGeom prst="rect">
            <a:avLst/>
          </a:prstGeom>
          <a:solidFill>
            <a:srgbClr val="c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KIRMIZI BEZ-KIRMIZI KOVA-KIRMIZI ELDİVEN: </a:t>
            </a: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 Narrow"/>
              </a:rPr>
              <a:t>Tuvalet  ve Banyolardaki</a:t>
            </a: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;  klozet, pisuar  ve sifon tankı temizliğinde  kullanılı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990720" y="457200"/>
            <a:ext cx="3011400" cy="2173320"/>
          </a:xfrm>
          <a:prstGeom prst="roundRect">
            <a:avLst>
              <a:gd name="adj" fmla="val 16667"/>
            </a:avLst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Yeni Resim (1)"/>
          <p:cNvPicPr/>
          <p:nvPr/>
        </p:nvPicPr>
        <p:blipFill>
          <a:blip r:embed="rId1"/>
          <a:stretch/>
        </p:blipFill>
        <p:spPr>
          <a:xfrm>
            <a:off x="4267080" y="1219320"/>
            <a:ext cx="1238400" cy="148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1152360" cy="125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066680" y="1447920"/>
            <a:ext cx="2895840" cy="533160"/>
          </a:xfrm>
          <a:prstGeom prst="rect">
            <a:avLst/>
          </a:prstGeom>
          <a:solidFill>
            <a:srgbClr val="e36c0a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TURUNCU B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990720" y="3200400"/>
            <a:ext cx="6377040" cy="2438280"/>
          </a:xfrm>
          <a:prstGeom prst="rect">
            <a:avLst/>
          </a:prstGeom>
          <a:solidFill>
            <a:srgbClr val="e36c0a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 Narrow"/>
              </a:rPr>
              <a:t>TURUNCU BEZ-TURUNCU KOVA-TURUNCU ELDİVEN: Hastanedeki tüm enfekte alanların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Poşet Eldiven: Hasta teması vb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hastadan personele bulaşın söz konusu olmadığı durumlarda ve yere dökülen hasta çıkartılarının havlu kağıt ile temizliğinde kullanılı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mic Sans MS"/>
              </a:rPr>
              <a:t>Dalhausen eldiven: Acinetobacterli, VRE'li hastalarda, enfeksiyon bölümünün izole ettirdiği hastalarda, gaita temizliğinde kullanılabil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u.ertuna</cp:lastModifiedBy>
  <dcterms:modified xsi:type="dcterms:W3CDTF">2016-02-04T11:19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