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1033-03F4-45AF-B7AC-E0E3B9C6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EAF-56BE-49BF-B643-D0DC4CA7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41F-DAEF-4961-B94C-4FCC26FF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045-BDF5-4F07-B211-B366173E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68D4-81BC-4B0A-BDE5-6870EEF0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FF94-FE43-4C4B-988F-E2E2DDE0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15D1-5209-4F2B-9FB4-F5B8E6AD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B273-4839-44B9-B15B-99A4EE71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2221-ECDA-4C6E-8A2B-5408568E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97F9-3A40-40FF-BBC5-6C827CE3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EF5F-E995-4821-8450-EE7C86D2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B29-49BE-482E-9955-DF09D1B5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EFF9-183E-438B-BE42-BB7A0908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64F4-9650-4EDF-A678-AF4EA6B4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7BAF-ED83-4547-A08F-C303C8D0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FD49-A8E4-46CB-9E83-C83A3827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D84B-7AE5-44B4-940B-3F83B8E3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F7A-58AE-46DF-8A38-46770A11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7ED-D837-4D3A-860C-8F584187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DF4-B085-4C55-9E3A-C563A6C6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2C0-262E-48FA-8686-5AFDAEEC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2DA-2CB7-4F97-BD61-47517E70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F05-6E7D-45D0-8DC3-8A2B7B85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DFE-6785-4FB3-80E7-4238B38A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0863-402D-4588-9D0C-6EE9EEBE9DDE}" type="slidenum"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39AE-7451-4413-9E2E-AAB0F89D1CE1}" type="slidenum">
              <a:rPr b="0" lang="tr-T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Arial"/>
              </a:rPr>
              <a:t>KİŞİSEL HİJYEN</a:t>
            </a:r>
            <a:endParaRPr b="0" lang="en-US" sz="48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ODORANT KULLANILMALI AĞIR PARFÜMLERDEN KAÇINILMALID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L BAKIMI YAPILMALIDI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ÜNİFORMA TEMİZ VE ÜTÜLÜ OL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ÖKÜK, YIRTIK, SOLMUŞ, LEKELİ, DÜĞMESİZ VB. OLMAMALIDI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İSİM ARMALARI YAZILMIŞ OL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AHAT ÇALIŞMA İMKANI VEREN ÜNİFORMA GİYİLMELİDİ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İMA YEDEK ÜNİFORMA BULUNDURUL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YAK BAKIMI VE TEMİZLİĞİNE ÖZEN GÖSTERİLMELİDİ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AZ GÜNDE BİR KEZ YIKANMALIDIR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YAKTA MANTAR AŞIRI TERLEME VE KOKU OLURSA MUTLAKA TEDAVİ ETTİRİLMELİDİR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48360" y="2203560"/>
            <a:ext cx="360036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658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ÇORAPLAR HERGÜN DEĞİŞTİRİLMELİDİ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YGUN VE RAHAT BİR AYAKKABI GİYİLMELİDİR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LİKLER DÜZENLİ OLARAK TEMİZLENMELİ VE BOYAN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IRTIK VE SÖKÜK TERLİKLER KULLANILMA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8160" y="2205000"/>
            <a:ext cx="2355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53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ÇLAR DÜZENLİ VE TEMİZ OL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ŞKALARINA AİT TOKA, TARAK VE FIRÇA  KULLANILMAMALIDI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Ç KILLARININ DÖKÜLMEMESİ VE DAĞINIK GÖZÜKMEMESİ İÇİN SAÇLAR BONE İÇERSİNE ALINMALIDI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386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Tur"/>
              </a:rPr>
              <a:t>MAKYAJ VE TAKILARA DİKKAT EDİLMELİDİR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Tur"/>
              </a:rPr>
              <a:t>MAKYAJ MALZEMELRİ AŞIRIYA KAÇMADAN KULLANILMALIDI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Tur"/>
              </a:rPr>
              <a:t>KÜNYE, YÜZÜK, HIZMA VB. ZİYNET EŞYALARI TAKILMAMALIDIR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29256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ÜCUTTA AŞIRI TERLEME VAR İSE KÖTÜ KOKMAMAK İÇİN TERLEYEN KISIMLAR SABUNLU BEZ İLE SİLİNİP DURULANMALI VE KURULANMALIDI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ERLEMEYİ AZALTAN KREM VE DEODORANTLAR KULLANILMALID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İŞİSEL HİJYE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İJYE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ir sağlık bilimi olup, temel ilgi alanı sağlığın korunması ve sürdürülmesidir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33847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İŞİSEL HİJYE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KİŞİSEL HİJY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kişilerin kendi sağlığını korudukları ve devam ettirdikleri  öz bakım uygulamalarıdır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29256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KİŞİSEL HİJYE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şisel temizlik, sağlıkla yakından ilgilidir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k çok hastalık mikrobunun temiz olmayan kişilerde kolayca yerleştiği bilinmektedir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ğlığın korunması için düzenli bir şekilde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aç, vücut, ağız ve dişlerimizin temizlenmesi ve giyeceklerin sık yıkanması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gereklidir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Arial"/>
              </a:rPr>
              <a:t>HİJYENİK UYGULAMALARIN AMAÇLARI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ücut salgılarının, atıklarının ve geçici mikroorganizmaların vücuttan uzaklaştırılması yoluyla temizliği sağlamak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eyin rahatlamasını, dinlenmesini, gevşemesini ve kas gerilimini azaltmak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ücuttaki kötü kokuları (ter kokusu) gidermek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Arial"/>
              </a:rPr>
              <a:t>HİJYENİK UYGULAMALARIN AMAÇLARI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eyin genel görünümünü olumlu hale getirmek, kendine olan güvenini arttırmak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5989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 Tur"/>
              </a:rPr>
              <a:t>KİŞİSEL HİJYEN KURALLAR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4897440" cy="33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ÜCUT TEMİZLİĞİ YAPILMALID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K SIK DUŞ ALINMALI BANYO YAPILMALIDI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İÇ ÇAMAŞIRLAR SIKLIKLA DEĞİTİRİLMELİDİ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21154200">
            <a:off x="4500360" y="2219040"/>
            <a:ext cx="46432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198108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RNAKLA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ZATILMAMALI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NTAZAM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İR ŞEKİLDE KESİLMELİDİ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YU RENK OJE KULLANILMAMALIDI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2538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-1143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Arial"/>
              </a:rPr>
              <a:t>AĞIZ HİJYENİ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637236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AĞIZ VE DİŞ BAKIMI DÜZENLİ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   </a:t>
            </a: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YAPILMALI AĞIZ İÇERiSİNDE VE DIŞINDA ÇIKAN YARALAR TEDAVİ ETTİRİLMELİDİ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   </a:t>
            </a:r>
            <a:r>
              <a:rPr b="0" lang="tr-TR" sz="3200" spc="-1" strike="noStrike">
                <a:solidFill>
                  <a:srgbClr val="dddddd"/>
                </a:solidFill>
                <a:latin typeface="Arial Tur"/>
              </a:rPr>
              <a:t>ÇÜRÜK VB. DİŞLER HOŞ OLMAYAN NEFES KOKUSUNU GİDERMEK İÇİN TEDAVİ ETTİRİLMELİDİ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75240" y="404640"/>
            <a:ext cx="2768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2:22:26Z</dcterms:created>
  <dc:creator>EXPER</dc:creator>
  <dc:description/>
  <dc:language>en-US</dc:language>
  <cp:lastModifiedBy>ebru.ertuna</cp:lastModifiedBy>
  <cp:lastPrinted>2004-03-16T10:27:57Z</cp:lastPrinted>
  <dcterms:modified xsi:type="dcterms:W3CDTF">2014-07-09T08:04:53Z</dcterms:modified>
  <cp:revision>51</cp:revision>
  <dc:subject/>
  <dc:title>KİŞİSEL HİJYEN</dc:title>
</cp:coreProperties>
</file>