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A7E0-3C48-4C23-AC53-4C28D63B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FACF-8B72-4220-B130-D51A46E1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7870-8D47-436D-8EE3-2029782BE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A182-1C0A-4161-8DEA-1D0F3C3C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4214-3752-44EF-A595-5857AADBE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A1B3-ED32-4BF8-A7E2-0B2C05AA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C9AC-9778-45A6-AB91-EC516802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B954-2482-4D13-9848-693E72A9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4A7D-1C30-4375-99F7-C568C4B2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F106-24A9-46F1-8331-907D4C8B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9CF6-2BF2-42C3-AAA9-884E8AAA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1F7B-9528-4768-B265-D26D1B3A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863A-2B61-4A36-BFBA-4257C897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8CB7-2F93-4EBC-8218-7DAAD288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3887-C7B0-4960-ADC5-1B4E33DD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66C2-F8EE-4119-BD90-46C9FD05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8525-7E3A-4AF2-A761-AB193E28A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0EA1-0CCF-48C5-9157-7EEAE182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C775-76AC-49EC-B9F4-4E232CBD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1284-DAE2-4C1C-B668-EA2DB6D3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BA85-E80B-43BB-9547-9A68221F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A633-DD85-4E37-A110-76F1C5AD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2612-0905-47DA-876E-7D29479C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BDD9-0131-4632-9A00-2605CB50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AD02-8A13-433E-94B8-C94480D64AB0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FFF6-1A55-44E2-9DBC-6B8997DC3F07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b9efee"/>
                </a:solidFill>
                <a:latin typeface="Garamond"/>
              </a:rPr>
              <a:t>KARŞILAŞILAN HATALI UYGULAMALAR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Garamond"/>
              </a:rPr>
              <a:t>Sabunlukların boşalınca direk doldurulması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Garamond"/>
              </a:rPr>
              <a:t>Yere kan ya da herhangi bir hasta çıkartısı bulaştığında paspas yapılması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Garamond"/>
              </a:rPr>
              <a:t>Çöp toplarken eldivenlerle kapı kollarına dokunulması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Garamond"/>
              </a:rPr>
              <a:t>Temizlikte temizden kirliye ilkesine uyulmadan öncelikle enfekte hastanın odasının temizlenmes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Dezenfektanların ölçülmeden göz kararı kullanılmas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Temizlik kovalarına koyulacak suların ölçülmeksizin koyulmas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Hasta bakım ortamında kuru süpürme işleminin yapılmas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Tuvaletlerde dezenfektan kullanım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Tuvaletlerde antiseptik sabun kullanım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Eldivenlerin amaç dışı kullanımı (poşet eldiven, kırmızı ve sarı eldivenle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Temizlikte deterjan ve dezenfektanların karıştırılması( çamaşır suyu+ovucu ya da genel temizlik maddesi+klor tablet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Dezenfektanları yanlış kullan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Temizlikte odalar arası ya da bölümler arası su değişiminin yapılmamas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Temizlik sonrası ya da gün bitiminde temizlik malzemelerinin kirli ve ıslak bırakılmas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Kirli çarşaf ve giysilerin yerlere atılmas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Garamond"/>
              </a:rPr>
              <a:t>Kirli çarşafların poşete konulmaksızın kucakta taşınmas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if KIRBAŞ</dc:creator>
  <dc:description/>
  <dc:language>en-US</dc:language>
  <cp:lastModifiedBy>Elif KIRBAŞ</cp:lastModifiedBy>
  <dcterms:modified xsi:type="dcterms:W3CDTF">2020-08-08T20:15:2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