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53C-F5DC-42C6-85B1-5917AB89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A53-1CAA-4DB7-8A88-478E4285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A59-2959-403E-8954-F3D93E62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DCE-011E-4F09-9D71-2EB7D4A6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4A5-31F5-4360-99DC-C216EE5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3C9-EE35-4035-A0F5-4B4C7FB4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369-9310-47F5-9C09-D118DFC9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AB6-269B-4840-8DB7-CB5B526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D20-02E9-46F5-8671-B9EA8D26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B6F-06C5-4884-B720-E6119F0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47A-42F6-4CC2-9EE5-7678280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20D-2417-4AF0-8AE4-0A4F884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242B-51D1-45F0-8AF6-560BB28FC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SPAS  ATMA EĞİTİMİ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5" descr="MMj03566130000[1]"/>
          <p:cNvPicPr/>
          <p:nvPr/>
        </p:nvPicPr>
        <p:blipFill>
          <a:blip r:embed="rId2"/>
          <a:stretch/>
        </p:blipFill>
        <p:spPr>
          <a:xfrm>
            <a:off x="3352680" y="3809880"/>
            <a:ext cx="165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atmada kullanılacak malzemeler eksiksiz olarak hazır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lzeme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ift Kovalı döner pres arab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slak paspas aparatı ve paspas b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 mob aparatı ve be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095880" y="4952880"/>
            <a:ext cx="1500480" cy="157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2057400" y="5029200"/>
            <a:ext cx="1738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u ve temizlik solüsyo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Faraş ve fırç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Çöp poşe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Uyarıcı lev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6192720" y="33354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3572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MCj03713400000[1]"/>
          <p:cNvPicPr/>
          <p:nvPr/>
        </p:nvPicPr>
        <p:blipFill>
          <a:blip r:embed="rId4"/>
          <a:stretch/>
        </p:blipFill>
        <p:spPr>
          <a:xfrm>
            <a:off x="4267080" y="1600200"/>
            <a:ext cx="18129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mizlik personeli işe başlamadan önce sarı renkli eldiveni giy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andalye, çöp kovası vb. gibi temizliği engelleyecek eşyalar kaldır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işlemine geçmeden önce kuru mob ile yüzeydeki kaba kirler toplanır ve bir köşede biriktirilir, faraş ve fırça yardımıyla çöp poşetine at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 süpürme yapılm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43600" y="4876920"/>
            <a:ext cx="1228680" cy="1228680"/>
          </a:xfrm>
          <a:prstGeom prst="rect">
            <a:avLst/>
          </a:prstGeom>
          <a:ln w="0">
            <a:noFill/>
          </a:ln>
        </p:spPr>
      </p:pic>
      <p:sp>
        <p:nvSpPr>
          <p:cNvPr id="52" name="8 Düz Bağlayıcı"/>
          <p:cNvSpPr/>
          <p:nvPr/>
        </p:nvSpPr>
        <p:spPr>
          <a:xfrm>
            <a:off x="5715000" y="442908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8 Düz Bağlayıcı"/>
          <p:cNvSpPr/>
          <p:nvPr/>
        </p:nvSpPr>
        <p:spPr>
          <a:xfrm>
            <a:off x="5867280" y="458136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8 Düz Bağlayıcı"/>
          <p:cNvSpPr/>
          <p:nvPr/>
        </p:nvSpPr>
        <p:spPr>
          <a:xfrm>
            <a:off x="5715000" y="4429080"/>
            <a:ext cx="2214720" cy="2428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0 Düz Bağlayıcı"/>
          <p:cNvSpPr/>
          <p:nvPr/>
        </p:nvSpPr>
        <p:spPr>
          <a:xfrm flipH="1">
            <a:off x="5715000" y="4357800"/>
            <a:ext cx="1571760" cy="25002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429000" y="5562720"/>
            <a:ext cx="12384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Öncellikle çift kovalı ve presli paspas setinin temiz su kovası (mavi) 2/3 oranında temiz su ile doldurulur ve ½ ped bardak genel temizlik maddesi ko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rli kovaya (kırmızı) 1/3 oranında temiz su kon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Cilalı yüzeylerde genel temizlik maddesi yerine cila bakım maddesi kullanılır.( 1 çay bardağı cila bakım maddesi konu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 bezi mavi kova içerisindeki su ile ıslatılır preste sıkılır. Presimiz kırmızı kovanın üzerine getir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zey “S” hareketi çizilerek temizlenir.Paspasın bir yüzü kirlendiğinde diğer yüzü çevrilerek paspaslamaya devam edil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uvar kenarları ve süpürgelikleri paralel hatlar çizilerek temizlen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rlenen paspas bezi kırmızı kovada yıkanarak pres ile sıkılır daha sonra mavi kovada yıkanarak tekrar sıkıl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İşleme devam ederken mavi kovadaki su giderek azalacak, kırmızı kovadaki su ise artacak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vi ve kırmızı kovadaki sular eşitlendiğinde sular boşaltılmalı; kovalar su ile çalkalanmalı ve yeniden temiz su ile doldurulmalıdı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slak paspaslama işlemi bittikten sonra zemin temiz kuru mob ile kurulanmalıdı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spaslama işlemi bittikten sonra kovalar içersindeki sular boşaltılır, kovalar yıkanarak durulan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lan paspas bezi ve moblar kirli poşetine konularak yıkanması için kirli çamaşır deposuna götürülü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lanılan malzemeler temiz ve düzenli bir şekilde temizlik deposuna kaldırılı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4-03-11T13:01:5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