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797-7C57-4FF5-88A3-80C3BD8EA3B0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0AA8-87E1-4186-932A-3B70ACCA6428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98B-9B33-4929-9881-5895D4ED84EF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1BE-49F2-4532-B1D8-2FD150238A41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347-4350-4675-8626-B7CD8CD1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539-C7D6-4B34-991D-AA09BC9F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DD8-DC87-4C4C-A3CD-E8371BE5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A67-DFD6-4A9C-B52A-FB0EEB61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AE37-C8EE-4005-A6ED-63DF6D90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2A45-66AF-4FF4-B62A-6F31C54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534B-11F3-436C-8689-33C7A05B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E052-96D5-4E73-A7F7-F14B75ED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385-8933-471E-BC69-30E55DED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13D2-A983-4D72-877D-9925AF7E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1EB-762C-492D-A37F-F1A634D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B04-FD9C-489D-A9A3-1BDB926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B51A-9C89-4385-82A5-E8C5C03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B830-EFFE-4E43-AEB0-4CD76FA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094D-7ADD-43A7-B10F-E2A570E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8B93-36FB-41C3-BE24-786E2D8F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9EF-9EC4-4540-A6EE-9ED81C00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BBD-7720-4ED1-8729-B5E260A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000-A83D-4C01-AFD5-70D9085D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6BE-B6EB-4175-9247-73CAA4A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CF8-59C0-4D8F-AE0E-4F64948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BDF-7487-4499-9349-8308E0B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DE6-D5B4-4FE8-B3DE-65C8C0B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E32-09D5-4AF2-80AE-4D7488AC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520B-B3BD-460D-991D-A80E62DA0337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089C-A084-46E6-9A98-A1DBC5D9BB6E}" type="slidenum">
              <a:rPr b="0" lang="tr-T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3" descr="pwnzpfim[1]"/>
          <p:cNvPicPr/>
          <p:nvPr/>
        </p:nvPicPr>
        <p:blipFill>
          <a:blip r:embed="rId1"/>
          <a:stretch/>
        </p:blipFill>
        <p:spPr>
          <a:xfrm>
            <a:off x="1547640" y="1766880"/>
            <a:ext cx="6120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b9efee"/>
                </a:solidFill>
                <a:latin typeface="Arial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astalık yapan mikroorganizmalar kişiden kişiye </a:t>
            </a:r>
            <a:r>
              <a:rPr b="0" lang="tr-TR" sz="3200" spc="-1" strike="noStrike" u="sng">
                <a:solidFill>
                  <a:srgbClr val="ff0033"/>
                </a:solidFill>
                <a:uFillTx/>
                <a:latin typeface="Arial"/>
              </a:rPr>
              <a:t>en çok eller yolu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ile bulaşmakta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ijyenik el yıkamanın amacı, eller üzerinde bulunan geçici bakterilerin tamamını, kalıcı bakterilerin ise bir kısmını ellerden uzaklaştırmaktı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6148440" y="152280"/>
            <a:ext cx="2386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6e6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HİJYEN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 iyi el yıkama işlemi bol suda ve sabunla, bilekleri de içine alacak şekilde avuç içi, parmak araları, parmak uçları ve özellikle tırnak dipleri iyice temizlenecek şekilde olmalıdı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ıkama ve durulama sonrasında nemli kalmaması için temiz bir havlu ile kuru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b9efee"/>
                </a:solidFill>
                <a:latin typeface="Garamond"/>
              </a:rPr>
              <a:t>El yıkama prosedürü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önce ısl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3-5 ml antiseptik içeren veya içermeyen sıvı sabun alı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Her iki elin tüm yüzeyleri ve parmaklar yaklaşık 30 saniye ovulu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Ilık su ile eller durulan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 havlu ile kurulanı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ullanılan havlu ile musluk kap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Garamond"/>
              </a:rPr>
              <a:t>Kağıt havlu el değmeden pedallı çöp kutusuna atılı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Avrupa EN 1500 El Yıkama Prosedür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425600" y="1905120"/>
            <a:ext cx="7230960" cy="4697280"/>
            <a:chOff x="1425600" y="1905120"/>
            <a:chExt cx="7230960" cy="4697280"/>
          </a:xfrm>
        </p:grpSpPr>
        <p:pic>
          <p:nvPicPr>
            <p:cNvPr id="132" name="Picture 4" descr="EL-5"/>
            <p:cNvPicPr/>
            <p:nvPr/>
          </p:nvPicPr>
          <p:blipFill>
            <a:blip r:embed="rId1"/>
            <a:stretch/>
          </p:blipFill>
          <p:spPr>
            <a:xfrm>
              <a:off x="1425600" y="1905120"/>
              <a:ext cx="7230960" cy="46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"/>
            <p:cNvSpPr/>
            <p:nvPr/>
          </p:nvSpPr>
          <p:spPr>
            <a:xfrm>
              <a:off x="1555560" y="609300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4057560" y="6093000"/>
              <a:ext cx="192492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49184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6496560" y="3789360"/>
              <a:ext cx="1924560" cy="431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057560" y="386064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431400" y="6165720"/>
              <a:ext cx="1924920" cy="432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Tahoma"/>
                </a:rPr>
                <a:t>5 saniye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b9efee"/>
                </a:solidFill>
                <a:latin typeface="Garamond"/>
              </a:rPr>
              <a:t>El yıkama ve El Antiseptiklerini Kullanma Endikasyonları</a:t>
            </a:r>
            <a:r>
              <a:rPr b="1" lang="tr-TR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ler eğer gözle görülür şekilde kirlenmişse su ve sabun ile yık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ğer eller gözle görülen bir şekilde kirlenmemiş ise alkol bazlı el antiseptikleri kullanılabili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el hijyeni yerini alma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 giyilse bile çıkardıktan sonra el hijyeni sağlanmalıdı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Eldiven Kullanımında Dikkat Edilmesi </a:t>
            </a:r>
            <a:br>
              <a:rPr sz="2800"/>
            </a:b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  Gereken Durum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O işlem için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mutlaka gerekli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erekli is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sadece o işlem iç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den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 hemen önce 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giyilme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İşlem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ittiği anda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çıkarıl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eldiven ile </a:t>
            </a:r>
            <a:r>
              <a:rPr b="1" lang="tr-TR" sz="2800" spc="-1" strike="noStrike">
                <a:solidFill>
                  <a:srgbClr val="ffffff"/>
                </a:solidFill>
                <a:latin typeface="Garamond"/>
              </a:rPr>
              <a:t>başka hiçbir yere</a:t>
            </a: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 dokunulmamal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Garamond"/>
              </a:rPr>
              <a:t>Aynı hasta üzerinde farklı bölgelere işlem yapılırken ya da bir hastadan diğer hastaya geçilirk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5840" y="20178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Ellerinizi yıkayarak kendinizi ve hastaları İnfeksiyonlardan koruyunuz. Eliniz temiz, içiniz rahat olsun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r>
              <a:rPr b="1" lang="tr-TR" sz="4400" spc="-1" strike="noStrike">
                <a:solidFill>
                  <a:srgbClr val="ffffff"/>
                </a:solidFill>
                <a:latin typeface="Marigol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Dikdörtgen 1"/>
          <p:cNvSpPr/>
          <p:nvPr/>
        </p:nvSpPr>
        <p:spPr>
          <a:xfrm>
            <a:off x="3268440" y="6400800"/>
            <a:ext cx="25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563c1"/>
                </a:solidFill>
                <a:uFillTx/>
                <a:latin typeface="Comic Sans MS"/>
                <a:ea typeface="Calibri"/>
              </a:rPr>
              <a:t>www.egitimhane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essive</cp:lastModifiedBy>
  <dcterms:modified xsi:type="dcterms:W3CDTF">2020-08-12T09:20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