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DEE6-2C44-4D0E-A0AC-7CC89F80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861D-7469-4B89-91F7-97922BCC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AEBE3F-04F1-4FA7-AE8A-8A521CA0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72F9A1-A5D2-4261-B899-FD9D5264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7EC622-9CFA-41A4-9CE2-284E00D9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23D174-A31E-4BF2-8E03-DD7A9B3A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B1E4F9-DB29-47F4-A126-3467DEB0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E93FFF-3375-41E7-BC74-1306DEC3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6D2E61-9C14-4EBD-B704-E4F40FB3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FEC5BC-A7E2-48D7-8B0B-B04D00FA7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C9DB66-49AA-4B7F-BE40-0B0F0462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0E5B-4C24-44BD-AFCE-2F8E65709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3A4D-1D33-4827-B538-B3A15CDD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D1508-948B-45E7-966C-21517693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16CDA-D827-49CA-B261-B871E31D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4BDAF-1825-455B-AAB7-92478EAF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AEF05-071F-4841-87D8-77AD916A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9F699-67CD-4356-B363-AECCCA50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7B7BC-5CC2-469B-AC50-392D625F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8D916-28A2-4F57-9C85-7EFEF6DF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845E-B821-4BAC-8F6C-AF5ADA8D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75D1E-66EA-4213-BCDC-A4D9DFB3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E6A0B-63EE-447C-9B6F-CD6E9F21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56560-FFA0-4708-A844-236635F7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CADDC-7557-4DCC-BA4C-13A30E8A3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77283-056C-40B7-A018-95D5C898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53E8A-B925-432E-86DA-FCCB57DF3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836E1-4129-46CA-9752-B549BB4D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BC500-5AC6-4B8C-ADFB-A9E269A5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2CA17-7FA2-4ECA-8D15-C579D377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67459-11A1-4A09-BF5D-F2D270F0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61CA-469B-4F88-9C69-FB022505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AAC9D-798B-492B-91EC-DB144071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25D99-A401-423F-965C-E3B554A2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8534A-1B29-41D0-8A10-D5F392FA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F423D-4EFA-4736-9FD4-7B1C7AD6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64E58-454E-41C8-B5A7-C13C6AED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FAA04-77E2-4459-9273-B7B57B110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5F81C-7317-4374-8754-8FBD4A3B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233964-6597-46F6-A080-9B6FA3C4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C813E4-AE05-4EA0-880F-F28545F5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0D53A9-3FFB-4144-9997-E698A61C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60D8-186C-4C4B-92EC-38663392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A7C33E-A739-4CC0-9C10-9678F3E8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3ED167-C16A-42C6-99A4-B7D3A773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14C55D-7C51-4455-B608-3783CB3D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A37FB0-7E56-45DA-9659-CEA8E4EA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CCFC39-FB10-4331-BEC4-AD809B9B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746274-EB17-4BE7-9E3C-2347B998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306016-337B-4A2C-ADE6-4147206D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EEBD0C-AC84-44E9-AF1A-C0D05E0B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1A112B-800D-4B81-9CE9-4CD7562D3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FB882-66CA-4D10-B1B6-B7116149D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8D6B-58E7-42F7-A92D-E6E0315C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E54D1-3554-4297-B719-815D2FB6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5D1B6-2DB2-4FBE-9919-FAE84293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66926-E139-421B-9F4B-2880F77B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3F8AD-7AA9-4687-8CDA-9D4C6A03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8BFDD-A4C6-4004-AF06-EA7CA0B2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4FDA7-D984-49D7-BB9A-E1FB835D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92466-3ED7-4E38-9F63-580E1CF8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A6FC5-0F35-46D2-B9CA-29754924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7C91F-00F8-4B5A-88B8-B68C3488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94DB8-C982-4006-9704-750DAFF8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2D04-F0CD-48AB-BFD4-ECA808B4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9857A-5160-4EB5-A299-275FEE5E0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11E49-CB86-4DBA-9ADF-D3A30C9C5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32585-56B1-4BBB-813D-112445F4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3CE56-B8BC-4429-8A4F-5705E3E9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E9321-175B-429E-9C03-A927248F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F6284-A20A-4362-A62B-2AEDCAD6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FB033-B6EF-4F5D-A456-FE9A095E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EE069-45F9-43C1-8A67-994E272F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F01F9-BFA6-4FE7-869F-3BB4E8D1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1C7D4-BF2A-4B07-83A5-4309DAB0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35AD-CE4B-4BB9-ADD5-8BC0A630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34A6C-3A1D-45DB-A3B3-95AA9EBF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1611D-9496-469A-B67E-96141F59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13990-4557-4656-A88B-721A44B01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AC9B3-FFE8-4332-915B-E3BFB03A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01037-E491-48A7-8A58-45AFB4F2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E3FB8-0E92-40CD-8971-9FACC391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2FB5B-91CF-476D-BCEB-BE59CD52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C643D-D141-497F-8F3D-35C0C921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B15B0-CA94-4322-BED2-41C8DB5F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CB74D-FC71-4966-9D44-479155AE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208B-177D-44BE-8601-99164822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3B3E6-2390-428D-9EE8-5E6B5C06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31747-5A25-4903-A973-A106A536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1876A-F5C4-426A-81DA-337D5199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BA15D-C66F-4131-A4E9-E7A599C19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3EC27-73EF-4354-AD34-D34169ACC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F76BF1-8BDD-47F0-8364-FC250BDEC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FB920A-0888-47CD-97E5-BDE154EC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3576FD-54BD-4EBF-8884-76430857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EDB219-50E4-4FE3-A1A1-E62EBDCC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F2AE7A-1EAE-443C-849E-2DC5FD4A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7C29-F2AA-4458-96D8-F6260AEF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1CF77A-2E26-451E-884D-0FC48FAB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698718-7C13-443D-832B-8C736850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50D6FF-484C-4382-A0C6-ED843261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3404E0-BFAF-4CDD-B4C2-EA401ECC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61F120-BE26-487A-943F-B1B76450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75B297-9B59-4659-BFFF-8A68B840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7ADB31-1422-4BFA-BA22-C2A028EB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8D8AE7-D695-44CF-AE24-3E3459B0B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8E4277-65FF-437C-B430-97C6E123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41CB78-79E7-40C0-BF08-12C69BCD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Yuvarlatılmış Çapraz Köşeli Dikdörtgen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6 Yuvarlatılmış Çapraz Köşeli Dikdörtgen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DD26-EC8D-4898-9D7C-5505E0C13F1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7 Yuvarlatılmış Çapraz Köşeli Dikdörtgen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7 Yuvarlatılmış Çapraz Köşeli Dikdörtgen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2735-3923-42BF-B8FE-2158E4A14C5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6 Yuvarlatılmış Çapraz Köşeli Dikdörtgen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6 Yuvarlatılmış Çapraz Köşeli Dikdörtgen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7 Dikdörtgen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1121-9065-4A33-9D05-5D1012D6222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7 Dikdörtgen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09CC-3730-4359-92A7-B5D2BEDA892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6 Yuvarlatılmış Çapraz Köşeli Dikdörtgen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6 Yuvarlatılmış Çapraz Köşeli Dikdörtgen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7 Dikdörtgen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E635-9060-475C-8189-BB9CA788077C}" type="slidenum">
              <a:rPr b="0" lang="tr-TR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6 Yuvarlatılmış Çapraz Köşeli Dikdörtgen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6 Yuvarlatılmış Çapraz Köşeli Dikdörtgen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7 Dikdörtgen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8 Dikdörtgen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CCB4-9F89-4F4A-B5EF-13C4C5EFEED4}" type="slidenum">
              <a:rPr b="0" lang="tr-TR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6 Yuvarlatılmış Çapraz Köşeli Dikdörtgen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6 Yuvarlatılmış Çapraz Köşeli Dikdörtgen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7 Dikdörtgen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7864-7EBD-4E98-A3D7-6CD46A4F20CE}" type="slidenum">
              <a:rPr b="0" lang="tr-TR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7 Dikdörtgen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923C-F716-4050-B25C-D52C5F8FE1D9}" type="slidenum">
              <a:rPr b="0" lang="tr-TR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06CA-01ED-4D55-AFF9-587414345BB9}" type="slidenum">
              <a:rPr b="0" lang="tr-TR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1 Başlık" descr=""/>
          <p:cNvPicPr/>
          <p:nvPr/>
        </p:nvPicPr>
        <p:blipFill>
          <a:blip r:embed="rId2"/>
          <a:stretch/>
        </p:blipFill>
        <p:spPr>
          <a:xfrm>
            <a:off x="457200" y="378000"/>
            <a:ext cx="8613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1 Başlık" descr=""/>
          <p:cNvPicPr/>
          <p:nvPr/>
        </p:nvPicPr>
        <p:blipFill>
          <a:blip r:embed="rId2"/>
          <a:stretch/>
        </p:blipFill>
        <p:spPr>
          <a:xfrm>
            <a:off x="401760" y="249120"/>
            <a:ext cx="8381880" cy="11588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Sıvı sabun kapları boşaldığında kaplar yerinden çıkarılır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Kapların içi ovularak eski sabundan arındırılır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Sıvı sabun kabı iyice durulanır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1 Başlık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Rockwell"/>
              </a:rPr>
              <a:t>Hazırlanan dezenfektanlı solüsyon içerisinde (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tr-TR" sz="3600" spc="-1" strike="noStrike">
                <a:solidFill>
                  <a:srgbClr val="ffffff"/>
                </a:solidFill>
                <a:latin typeface="Rockwell"/>
              </a:rPr>
              <a:t> li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tr-TR" sz="3600" spc="-1" strike="noStrike">
                <a:solidFill>
                  <a:srgbClr val="ffffff"/>
                </a:solidFill>
                <a:latin typeface="Rockwell"/>
              </a:rPr>
              <a:t>re suya 1  litre  çamaşır suyu) veya 5 litre suya 1 adet klorsept tablet) sabun kapları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tr-TR" sz="3600" spc="-1" strike="noStrike">
                <a:solidFill>
                  <a:srgbClr val="ffffff"/>
                </a:solidFill>
                <a:latin typeface="Rockwell"/>
              </a:rPr>
              <a:t>0 dakika bekletilerek dezenfekte edilir.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1 Başlık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zenfekte edilen kaplar durulanır ve kurulanır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Kurulanan sıvı sabun kapları içerisine sıvı sabun doldurulur ve kullanıma hazır hale getirilir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üm hastane içerisinde aynı uygulama kaplar boşaldıkça tekrarlanır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3:05:28Z</dcterms:created>
  <dc:creator>hulya.acikgoz</dc:creator>
  <dc:description/>
  <dc:language>en-US</dc:language>
  <cp:lastModifiedBy>ebru.ertuna</cp:lastModifiedBy>
  <dcterms:modified xsi:type="dcterms:W3CDTF">2012-02-06T12:57:14Z</dcterms:modified>
  <cp:revision>4</cp:revision>
  <dc:subject/>
  <dc:title>SIVI SABUN KAPLARININ TEMİZLİĞİ</dc:title>
</cp:coreProperties>
</file>