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AA88-31A2-4959-BC58-95140DF2F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5D3C-1EB3-46B1-BF0C-0CD5EB7F6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4141-5430-45C7-9663-C98016D2F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F956-FDDA-40A6-9CD3-62D6ECEE8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12238-78AC-4063-939A-F8040DA19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4F3D5-F771-4243-9A8F-5A6018C80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C977D-7AA2-4B30-8D33-5624C2B25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D689C-381D-4FAF-9CA1-A99300425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649E8-4073-4D3D-9889-511E8317F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9BEB1-B0EF-4822-8C7C-B1FC975EC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5BA20-297A-4851-8A12-4D7714E18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FF8C-78D4-4828-BEAA-71491BEB1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FA8A7-E1C8-4E4A-A4C7-212D2B48C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1CA9C-5A81-4A06-823A-3E94FA3A5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F9BA6-1446-4E55-A935-6DDAE1E0E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7A931-D598-4804-91AF-F69159155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B3A58-7D28-4BCD-BBA5-B7CF31033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ADE9-6692-4234-A1C0-EEDD1D7CA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2096-CBC6-43A1-9237-1E30ED1E7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1543-8520-40F8-950F-EF659C6A1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779B-91E8-4029-AD58-B2C0F32CD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CF50-12DB-4336-B489-5A4F9D6DE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FD52-51BD-4199-8988-E61ACB3AB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4C74-552D-4D4E-8CDC-2A544F068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prstGeom prst="pie">
              <a:avLst/>
            </a:pr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E1098-1084-480B-8AF8-3C1DC7501B01}" type="slidenum">
              <a:rPr b="0" lang="tr-TR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prstGeom prst="pie">
              <a:avLst/>
            </a:pr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5E287-8C80-429F-9BC0-E219E3915BF4}" type="slidenum">
              <a:rPr b="0" lang="tr-TR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b9efee"/>
                </a:solidFill>
                <a:latin typeface="Garamond"/>
              </a:rPr>
              <a:t>KULLANILAN DEZENFEKTANLAR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95280" y="2565360"/>
            <a:ext cx="842472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b9efee"/>
                </a:solidFill>
                <a:latin typeface="Garamond"/>
              </a:rPr>
              <a:t>Temizlikte Temel ilkeler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Garamond"/>
              </a:rPr>
              <a:t>Temizlik temizden kirliye doğru yapılmalıdır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Garamond"/>
              </a:rPr>
              <a:t>Temizlik malzemeleri her bölüm için farklıdır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Garamond"/>
              </a:rPr>
              <a:t>Temizlik hareketlilik başlamadan önce yapılır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Garamond"/>
              </a:rPr>
              <a:t>Temizlik yukarıdan aşağı doğru yapılır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Garamond"/>
              </a:rPr>
              <a:t>Temizlik solüsyonu temizlenen bölgenin risk durumuna göre hazırlanır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Garamond"/>
              </a:rPr>
              <a:t>Temizlenecek alana göre kova ve bez rengi belirlenir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Garamond"/>
              </a:rPr>
              <a:t>Temizlik bitiminde malzemeler uygun şekilde yıkanıp kurutulur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Garamond"/>
              </a:rPr>
              <a:t>Temizlik malzemeleri kova içinde ve ıslak bırakılmaz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Garamond"/>
              </a:rPr>
              <a:t>Temizlik maddeleri ve dezenfektanlar birbiri ile karıştırılmaz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Garamond"/>
              </a:rPr>
              <a:t>Tuvaletler en son temizlenir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Garamond"/>
              </a:rPr>
              <a:t>Kuru süpürme, silkeleme yapılmaz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Garamond"/>
              </a:rPr>
              <a:t>Temizlik /dezenfektan çözeltileri  kirlendiğinde,  her hasta odasında kullanımdan sonra, izolasyon odasında kullanımdan sonra (koruyucu izolasyon hariç) koruyucu izolasyon odasında kullanımdan önce değiştirilmelidir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Garamond"/>
              </a:rPr>
              <a:t>KLORSEPT TABLE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Garamond"/>
              </a:rPr>
              <a:t>Kullanımı: 5 litreye 1 tablet ya da enfekte hasta odasının temizliğinde 1 litreye 1 table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Garamond"/>
              </a:rPr>
              <a:t>Bekleme süresi: 30 dakik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Garamond"/>
              </a:rPr>
              <a:t>ÇAMAŞIR SUYU: 1 LİTREDE 100 CC YANİ 900 CC SU+100 CC ÇAMAŞIR SUYU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Garamond"/>
              </a:rPr>
              <a:t>Klor tabletlerin kullanım bölgeleri: TRANSPLANTASYON SERVİSİ, YOĞUN BAKIMLAR, AMELİYATHANE,LABARATUVARLAR VE ENFEKSİYON HEMŞİRELİĞİ TARAFINDAN BİLDİRİLEN BULAŞICI HASTALIĞI OLAN HASTALAR (TBC,VRE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b9efee"/>
                </a:solidFill>
                <a:latin typeface="Garamond"/>
              </a:rPr>
              <a:t>ENFEKTE ODA TEMİZLİĞİ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Garamond"/>
              </a:rPr>
              <a:t>Oda temizliği için kullanılacak tüm temizlik malzemeleri odaya taşınır ve hasta taburcu olana kadar malzemeler odada kalır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Garamond"/>
              </a:rPr>
              <a:t>İzolasyon odalarına girmeden önce personel ilk önce gömlek daha sonra eldiven giyer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Garamond"/>
              </a:rPr>
              <a:t>Personel ellerini yıkar ve eldiven giyer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Garamond"/>
              </a:rPr>
              <a:t>Turuncu renk kodlaması uygulanır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Garamond"/>
              </a:rPr>
              <a:t>Tüm çöpler tıbbi atık çöp poşetine toplanır ve üzerine enfekte  yazılı etiket yapıştırılır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Garamond"/>
              </a:rPr>
              <a:t>Çöp kovaları kirlenmişse dezenfekte edilir ve temiz poşet yerleştirilir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Garamond"/>
              </a:rPr>
              <a:t>Yatak çarşafları toplanır ve yeşil tıbbi atık poşetine konur ve üzerine enfekte çamaşır yazılı etiket yapıştırılır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Garamond"/>
              </a:rPr>
              <a:t>Tüm yüzeyler dezenfektanlı solüsyonla silinir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Garamond"/>
              </a:rPr>
              <a:t>Temiz çamaşır serilir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Garamond"/>
              </a:rPr>
              <a:t>Yerler dezenfektanlı solüsyonla paspaslanır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Garamond"/>
              </a:rPr>
              <a:t>Dezenfektan kullanılan yüzeylere durulama ve kurulama yapılmaz. Dezenfektanın metal yüzeylerden durulanması gerekiyorsa 30 dk. yüzeye temas ettikten sonra durulanmalıdır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Garamond"/>
              </a:rPr>
              <a:t>Odadan çıkarken ilk önce eldiven daha sonra önlük çıkartılır ve el antiseptiği sıkılır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Garamond"/>
              </a:rPr>
              <a:t>Atık çöpler ve çamaşırlar odadan çıkartılırken dışarıda temiz poşetin içine tekrar konur ve ağzı sıkıcı kapatılıp etiket yapıştırılır ve hiç bekletilmeden ve asansör kullanmadan  hastane dışındaki depo alanlarına atılır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Garamond"/>
              </a:rPr>
              <a:t>Yatan hastada enfekte oda temizliği 24 saatte 3 defa yapılmaktadır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Garamond"/>
              </a:rPr>
              <a:t>Taburcu sonrası enfekte oda temizliği 6 saat içersinde 3 kez tüm yüzeyler silinerek yapılmalıdır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Garamond"/>
              </a:rPr>
              <a:t>İlk temizlikte tüm tekstil ürünleri, perdelerde dahil olmak üzere kırmızı tıbbı atık poşetine konur ve üzerine enfekte çamaşır yazılarak çamaşır deposuna atılır. Kirliye atılan çamaşırlarla ilgili tutanak tutulur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Garamond"/>
              </a:rPr>
              <a:t>İlk temizlikte tüm duvarlar camlar klorsept tabletle yıkanır, durulanmadan bırakılır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04920" y="9907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Garamond"/>
              </a:rPr>
              <a:t>Tüm elektronik cihazlar klorsept tabletle yıkanmış iyice sıkılmış nemli bezle silinir.Kesinlikle suyun içersine atılmaz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Garamond"/>
              </a:rPr>
              <a:t>Onun dışında kalan tıbbı malzemeler (derece, kulaktan ateş ölçer uçlar, ilaç şişeleri vb..) klorsept tabletle hazırlanmış solüsyonun içersinde 30 dk bekletilir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Garamond"/>
              </a:rPr>
              <a:t>Bilmediğiniz aletlerle ilgili yanlış bir şey yapmamak için hemşire hanımlara danışılır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Garamond"/>
              </a:rPr>
              <a:t>Banyodaki tüm fayanslar ve zeminler klorsept tabletle yıkanır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Garamond"/>
              </a:rPr>
              <a:t>Banyo ve tuvalette bulunan havlu kağıt, tuvalet kağıdı atılır, sıvı sabun dökülür ve dezenfekte edilir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80880" y="10663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Garamond"/>
              </a:rPr>
              <a:t>İkinci temizlikte duvarlar ve camlar durulanarak silinir ve kurulanır. Onun dışındaki odada bulunan tüm eşyalar tekrar klor tabletle silinir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Garamond"/>
              </a:rPr>
              <a:t>Üçüncü temizlikte ise en çok kullanılan kapı kolları, elektrik prizleri vb. yerler tekrar klorsept tabletli su ile temizlenir diğer yüzeyler durulanır, kurulanır 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Garamond"/>
              </a:rPr>
              <a:t>Son temizlikte yerleştirilmeli ve hasta kabul edilecek duruma getirilmelidir</a:t>
            </a:r>
            <a:r>
              <a:rPr b="0" lang="tr-TR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Garamond"/>
              </a:rPr>
              <a:t>Kullanılan temizlik malzemeleri dezenfekte edildikten sonra depoya teslim edilir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b9efee"/>
                </a:solidFill>
                <a:latin typeface="Garamond"/>
              </a:rPr>
              <a:t>Temizlik Solüsyonlarının Hazırlanması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Garamond"/>
              </a:rPr>
              <a:t>Solüsyon temizlenen bölgeye uygun oranda hazırlanmalı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Garamond"/>
              </a:rPr>
              <a:t>Solüsyon işlemden hemen önce hazırlanmalı uzun süre bekletilmemelidir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Garamond"/>
              </a:rPr>
              <a:t>Temizlik malzemeleri kova içinde bırakılmamalıdır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Garamond"/>
              </a:rPr>
              <a:t>Kullanılan solüsyon başka bir solüsyonla karıştırılmamalıdır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Garamond"/>
              </a:rPr>
              <a:t>Diğer bir odaya geçmeden önce toz kovalarının içersindeki sular dökülür, kova çalkalanır ve temizlik bezleri yıkanır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bru.ertuna</cp:lastModifiedBy>
  <dcterms:modified xsi:type="dcterms:W3CDTF">2015-09-30T09:23:10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