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4.wmf" ContentType="image/x-wmf"/>
  <Override PartName="/ppt/media/image5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3197-1C73-4C44-8A81-3B00F7902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AD51-563D-42B1-9F88-222D261B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F81B-B779-4C2E-80AF-10216983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377A-48C7-4B2E-B180-5DFE6D31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4688-6356-4BB8-9252-72254930B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1D2C-9B2F-4468-B361-480F878E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A43F-C132-4720-9697-0B22BE99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3D2E-0F92-472D-B3E6-736E28F9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F9CC-F8AA-47C9-8971-88360E52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737A-284F-46AA-AADB-099A756B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9366-A59E-4EE9-900D-90B4279A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17FE-F6AB-4FE6-979F-77362F98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A062-59DA-4E78-9485-B5329ADA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A7CB-0D43-486D-AD24-17126FB1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EB8B-7BA5-42E8-94D8-306D1B5E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BE1E-B2BC-4143-A26C-012AE431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C14D-22D5-4011-AE38-97627D90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8BD2-3932-4814-9D5B-8D18A72F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B9A8-3C36-4276-ACC1-AAD030DF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4B76-F71A-4AE2-A66A-3EC3F222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4FF6-B1C3-42FA-B6EB-B5456F8E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822C-61DA-4B6B-ABCF-FFD9E3D1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0C49-D83E-4A13-9727-A51DD24D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C292-075C-4E45-B2D8-434898BC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"/>
              <p:cNvSpPr/>
              <p:nvPr/>
            </p:nvSpPr>
            <p:spPr>
              <a:xfrm>
                <a:off x="-12600" y="936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-6480" y="3078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7320" y="336600"/>
                <a:ext cx="782640" cy="1087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49280" y="7412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4734-145E-429C-B6F8-926B9CBE1FEC}" type="slidenum">
              <a:rPr b="0" lang="tr-TR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50" name="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53" name=""/>
              <p:cNvSpPr/>
              <p:nvPr/>
            </p:nvSpPr>
            <p:spPr>
              <a:xfrm>
                <a:off x="-12600" y="16812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-6480" y="18954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57320" y="192420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49280" y="23288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6808-106E-42BD-AB90-AC16D4DFEF73}" type="slidenum">
              <a:rPr b="0" lang="tr-TR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33"/>
                </a:solidFill>
                <a:latin typeface="Arial"/>
              </a:rPr>
              <a:t>KİŞİSEL HİJYEN</a:t>
            </a:r>
            <a:endParaRPr b="0" lang="en-US" sz="48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EODORANT KULLANILMALI AĞIR PARFÜMLERDEN KAÇINILMALIDI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L BAKIMI YAPILMALIDIR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ÜNİFORMA TEMİZ VE ÜTÜLÜ OLMALIDIR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ÖKÜK, YIRTIK, SOLMUŞ, LEKELİ, DÜĞMESİZ VB. OLMAMALIDI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İSİM ARMALARI YAZILMIŞ OLMALIDIR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AHAT ÇALIŞMA İMKANI VEREN ÜNİFORMA GİYİLMELİDİR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İMA YEDEK ÜNİFORMA BULUNDURULMALIDIR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YAK BAKIMI VE TEMİZLİĞİNE ÖZEN GÖSTERİLMELİDİ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AZ GÜNDE BİR KEZ YIKANMALIDIR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YAKTA MANTAR AŞIRI TERLEME VE KOKU OLURSA MUTLAKA TEDAVİ ETTİRİLMELİDİR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148360" y="2203560"/>
            <a:ext cx="360036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658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ÇORAPLAR HERGÜN DEĞİŞTİRİLMELİDİR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YGUN VE RAHAT BİR AYAKKABI GİYİLMELİDİR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LİKLER DÜZENLİ OLARAK TEMİZLENMELİ VE BOYANMALIDIR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IRTIK VE SÖKÜK TERLİKLER KULLANILMAMALIDIR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788160" y="2205000"/>
            <a:ext cx="23558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53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ÇLAR DÜZENLİ VE TEMİZ OLMALIDIR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ŞKALARINA AİT TOKA, TARAK VE FIRÇA  KULLANILMAMALIDI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Ç KILLARININ DÖKÜLMEMESİ VE DAĞINIK GÖZÜKMEMESİ İÇİN SAÇLAR BONE İÇERSİNE ALINMALIDIR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227640" y="1773360"/>
            <a:ext cx="23860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Tur"/>
              </a:rPr>
              <a:t>MAKYAJ VE TAKILARA DİKKAT EDİLMELİDİR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Tur"/>
              </a:rPr>
              <a:t>MAKYAJ MALZEMELRİ AŞIRIYA KAÇMADAN KULLANILMALIDI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Tur"/>
              </a:rPr>
              <a:t>KÜNYE, YÜZÜK, HIZMA VB. ZİYNET EŞYALARI TAKILMAMALIDIR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64000" y="1916280"/>
            <a:ext cx="329256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ÜCUTTA AŞIRI TERLEME VAR İSE KÖTÜ KOKMAMAK İÇİN TERLEYEN KISIMLAR SABUNLU BEZ İLE SİLİNİP DURULANMALI VE KURULANMALIDIR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ERLEMEYİ AZALTAN KREM VE DEODORANTLAR KULLANILMALIDI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İŞİSEL HİJYE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İJYE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ir sağlık bilimi olup, temel ilgi alanı sağlığın korunması ve sürdürülmesidir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64000" y="1989000"/>
            <a:ext cx="338472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İŞİSEL HİJYE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KİŞİSEL HİJY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kişilerin kendi sağlığını korudukları ve devam ettirdikleri  öz bakım uygulamalarıdır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35640" y="1773360"/>
            <a:ext cx="329256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KİŞİSEL HİJYE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şisel temizlik, sağlıkla yakından ilgilidir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k çok hastalık mikrobunun temiz olmayan kişilerde kolayca yerleştiği bilinmektedir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ğlığın korunması için düzenli bir şekilde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aç, vücut, ağız ve dişlerimizin temizlenmesi ve giyeceklerin sık yıkanması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gereklidir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cc"/>
                </a:solidFill>
                <a:latin typeface="Arial"/>
              </a:rPr>
              <a:t>HİJYENİK UYGULAMALARIN AMAÇLARI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ücut salgılarının, atıklarının ve geçici mikroorganizmaların vücuttan uzaklaştırılması yoluyla temizliği sağlamak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eyin rahatlamasını, dinlenmesini, gevşemesini ve kas gerilimini azaltmak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ücuttaki kötü kokuları (ter kokusu) gidermek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cc"/>
                </a:solidFill>
                <a:latin typeface="Arial"/>
              </a:rPr>
              <a:t>HİJYENİK UYGULAMALARIN AMAÇLARI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eyin genel görünümünü olumlu hale getirmek, kendine olan güvenini arttırmak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76720" y="1773360"/>
            <a:ext cx="359892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 Tur"/>
              </a:rPr>
              <a:t>KİŞİSEL HİJYEN KURALLAR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4897440" cy="33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ÜCUT TEMİZLİĞİ YAPILMALIDI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K SIK DUŞ ALINMALI BANYO YAPILMALIDI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İÇ ÇAMAŞIRLAR SIKLIKLA DEĞİTİRİLMELİDİ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 rot="21154200">
            <a:off x="4500360" y="2219040"/>
            <a:ext cx="464328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560" y="1981080"/>
            <a:ext cx="676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RNAKLA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ZATILMAMALI,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NTAZAM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İR ŞEKİLDE KESİLMELİDİ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YU RENK OJE KULLANILMAMALIDI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867280" y="1484280"/>
            <a:ext cx="253836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-1143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cc"/>
                </a:solidFill>
                <a:latin typeface="Arial"/>
              </a:rPr>
              <a:t>AĞIZ HİJYENİ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637236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dddddd"/>
                </a:solidFill>
                <a:latin typeface="Arial Tur"/>
              </a:rPr>
              <a:t>AĞIZ VE DİŞ BAKIMI DÜZENLİ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dddddd"/>
                </a:solidFill>
                <a:latin typeface="Arial Tur"/>
              </a:rPr>
              <a:t>   </a:t>
            </a:r>
            <a:r>
              <a:rPr b="0" lang="tr-TR" sz="3200" spc="-1" strike="noStrike">
                <a:solidFill>
                  <a:srgbClr val="dddddd"/>
                </a:solidFill>
                <a:latin typeface="Arial Tur"/>
              </a:rPr>
              <a:t>YAPILMALI AĞIZ İÇERiSİNDE VE DIŞINDA ÇIKAN YARALAR TEDAVİ ETTİRİLMELİDİR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dddddd"/>
                </a:solidFill>
                <a:latin typeface="Arial Tur"/>
              </a:rPr>
              <a:t>   </a:t>
            </a:r>
            <a:r>
              <a:rPr b="0" lang="tr-TR" sz="3200" spc="-1" strike="noStrike">
                <a:solidFill>
                  <a:srgbClr val="dddddd"/>
                </a:solidFill>
                <a:latin typeface="Arial Tur"/>
              </a:rPr>
              <a:t>ÇÜRÜK VB. DİŞLER HOŞ OLMAYAN NEFES KOKUSUNU GİDERMEK İÇİN TEDAVİ ETTİRİLMELİDİR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75240" y="404640"/>
            <a:ext cx="27687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2:22:26Z</dcterms:created>
  <dc:creator>EXPER</dc:creator>
  <dc:description/>
  <dc:language>en-US</dc:language>
  <cp:lastModifiedBy>ebru.ertuna</cp:lastModifiedBy>
  <cp:lastPrinted>2004-03-16T10:27:57Z</cp:lastPrinted>
  <dcterms:modified xsi:type="dcterms:W3CDTF">2014-07-09T08:04:53Z</dcterms:modified>
  <cp:revision>51</cp:revision>
  <dc:subject/>
  <dc:title>KİŞİSEL HİJYEN</dc:title>
</cp:coreProperties>
</file>