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0D5-9B7A-4348-887D-71F75CE8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12F-FDDD-4E67-86F2-F191E401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8DA6BD-C52B-43F7-920E-106A13E7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9D529E-7C4E-40A0-B615-B011545C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06A4E0-8DD0-4A30-9BF4-C9C76804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87D434-1F20-41AB-B2CE-EEF720DE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4F94CF-0ED7-4584-B311-4D6EDE79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5A128C-1196-4551-B889-A9982C2A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66D50E-8438-4547-9A89-ABF1BB1E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5B61AD-30C4-4E56-8F22-75767EFA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629DD8-A915-448D-9E40-5A244283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138-4654-4466-8B2E-D07F4F51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407-D32C-42CE-8BCB-004C8A61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C6C13-00F9-4522-BE2F-84ACBDB2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DA5AE-39CA-4272-A297-3630B9E5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06808-2F6B-4E58-82B3-0B3CA821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B5A77-BF83-44FB-B833-3DB68ACE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D3220-76C3-4205-BB15-F315063C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35D10-0794-43DC-9BB3-91D34A50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DA9D0-FB88-42F2-BBE6-6F9B8BF5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C75-291C-4408-AF09-C5B64ECC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2D5F5-192C-430C-8F27-F75BAEFF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166F3-F4C0-4322-8905-592101D3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A4015-7D63-4532-BC2E-237FAA9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9A25D-0A28-4595-9FB5-C6E18079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6BE76-8726-4AD7-8667-A454FDC4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2396-20B8-45D4-AB29-F09C01F6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6BE8F-A3E1-4C11-84E0-57DC68BD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16317-E609-4E16-B014-FF0CCB1C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7B69-74BE-41D3-B868-712040E9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4316E-90D0-4172-9F87-155A785D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EA1-8ED5-43CF-A025-103151E9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76B9E-4205-4BF9-8380-7B9E4FF9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4146-A71D-4E89-AB09-71C501D7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AD192-4267-4DD4-96C7-510A466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2CC4-A0EB-490C-8AEF-4812861B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CA173-7C98-484E-BAFC-6AAFC05E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F48F-3DAD-4098-975D-DB125DC6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FBAC-4904-454F-95A5-EFAFC21D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2E605-0C74-4392-9D8C-E1DFDA14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637D6-5403-4E23-897E-AD1B3AE3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1AB74-416F-42EC-98F0-F2B14865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E0A-B58C-4960-AD38-1BD34207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22C56-10CB-4ADD-A7AB-513ADC96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1E585-8446-4D70-9337-B5C7873A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CC228-25F8-4059-8F95-9EE9EB32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3E787-DEE2-49A6-AB86-4C5E0EF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4F96A-773E-49CD-BE78-EFDA4562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D725D1-A6A4-4A98-A2D9-61FE6064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DC144-7FBE-4F6E-B6E2-3014E91E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AE73E-D892-46B4-9BDA-F9D12949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62C206-646C-44A5-827E-2C926573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FD91F-C21B-4596-92BE-25459153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B39-ADD6-4D53-9D77-1FFDB2CA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62408-835F-407C-8B1E-E901B1F2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DDEC5-1D6C-47FE-8580-F48CF10F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FB773-D440-4848-B131-7A09EB50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D22DB-3B41-4336-A48E-A3E0DF83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E47C5-680E-4260-B8B0-755052D9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1251-EE9B-499F-A680-68052D84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DD789-9B7E-4287-8268-F613BB61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979FE-5839-437D-A97F-755164C7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CB0C7-F14C-4375-BEDC-0CC669E2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D877D-42FB-41B8-AA23-D62DB9E7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8AE-B8B8-4F7A-8429-5710A194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9DE52-5F2B-404E-89EB-46644CF1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C255D-CBC9-4822-8AD9-6BDE0F55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F82AA-F12B-4CFD-9D9B-9039BD18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5BDF9-2257-4A30-928F-91845213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CE803-1506-46CE-871D-E64CD0F2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B7D30-5493-4C4B-BE2E-D535A132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620CF-910C-4523-80AC-60F6CCBF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9C779-4519-4DB4-A00C-75D7616D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3BC54-D77B-4462-A2AD-1732A6AF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C0A4B-0032-4F04-A45B-CB9C59E1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3B5-FCB5-43AA-81F5-1C0EC791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A79C4-2E40-4E80-A2D4-03C4FFBB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5F5D8-257E-4CCE-9763-5F545BA8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8F24C-C148-471E-AD1A-52BEF9C9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8FDA9-BF3C-47F3-80BD-2FDCA278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8760D-C89A-42F8-80D8-DDA48D3B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CA6DC-8726-48DD-9654-AB1B3934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58F14-4782-4265-9CDD-54E0913C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418EF-07B6-4C2E-851F-175F4D24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C4850-9E5F-47D5-AFEF-54933AE3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66549-3DB4-4B97-AFFC-36BC2D0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9AD-13D5-41ED-B431-5AA22B49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FFAB2-2BCE-4A39-BB79-72E020E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67576-6C55-4130-BA3D-CA2E306C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9CE8E-094F-4F08-B90A-20B54D1A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9FE2B-C99A-405F-BEAA-6AD4B3A7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FCF9B-29D0-4A33-BB29-5D07ECBD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DF4FB4-FB2B-43CD-BBA1-F107A06B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43DE91-8E33-4BFC-9960-4BDACF5B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2CA39-C841-4628-A529-2CD5762A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D572B1-D66D-4F89-A123-50114883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BDEB6B-3B5A-479C-A58A-A1A1E38E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D10-B38B-48DD-8634-651D36B8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A663EC-9A4C-44C2-9B7F-455BCA83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EC4AE3-B7C8-46CB-9348-1797E2C8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FD3B0-C35E-49A9-8C5C-9903E72D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F020EA-9190-4E0A-ACB2-2862B923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91E54-F9B2-4633-97E4-F00656C5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74D2B9-961F-4998-A06F-2A928E5E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2406E-81B2-49F6-AB4F-E040D050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562150-2AB3-49FE-8D36-C32F61F1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6261EA-22DF-416B-B8D8-99BA2764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68B451-1E13-446E-8B73-B13196F0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3C18-1032-476E-A75E-5B9D0AB4F00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Yuvarlatılmış Çapraz Köşeli Dikdörtgen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7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5FA1-78D2-4A81-A678-C1D121BD8D5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7 Dikdörtgen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600D-B6D1-4901-A3E5-DDFD37015D0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Dikdörtgen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D958-AF0D-4185-9074-D920E28FD6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7 Dikdörtgen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198E-9C30-4916-AA62-00227FE59235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7 Dikdörtgen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8 Dikdörtgen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3ECF-D292-4DAB-9916-3A9EC001A0F3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7 Dikdörtgen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73A5-EDF7-4FB2-81AC-CECB4111A7F9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Dikdörtgen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1359-A077-4C55-9433-06595D66BB34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36CE-0C04-43A5-B87B-900C25B84017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Başlık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613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1 Başlık" descr=""/>
          <p:cNvPicPr/>
          <p:nvPr/>
        </p:nvPicPr>
        <p:blipFill>
          <a:blip r:embed="rId2"/>
          <a:stretch/>
        </p:blipFill>
        <p:spPr>
          <a:xfrm>
            <a:off x="401760" y="249120"/>
            <a:ext cx="8381880" cy="1158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Sıvı sabun kapları boşaldığında kaplar yerinden çıkarılır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Kapların içi ovularak eski sabundan arındırılır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Sıvı sabun kabı iyice durulanır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1 Başlık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Hazırlanan dezenfektanlı solüsyon içerisinde (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 li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re suya 1  litre  çamaşır suyu) veya 5 litre suya 1 adet klorsept tablet) sabun kapları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0 dakika bekletilerek dezenfekte edilir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1 Başlık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zenfekte edilen kaplar durulanır ve kurulanı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urulanan sıvı sabun kapları içerisine sıvı sabun doldurulur ve kullanıma hazır hale getirili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üm hastane içerisinde aynı uygulama kaplar boşaldıkça tekrarlanı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05:28Z</dcterms:created>
  <dc:creator>hulya.acikgoz</dc:creator>
  <dc:description/>
  <dc:language>en-US</dc:language>
  <cp:lastModifiedBy>ebru.ertuna</cp:lastModifiedBy>
  <dcterms:modified xsi:type="dcterms:W3CDTF">2012-02-06T12:57:14Z</dcterms:modified>
  <cp:revision>4</cp:revision>
  <dc:subject/>
  <dc:title>SIVI SABUN KAPLARININ TEMİZLİĞİ</dc:title>
</cp:coreProperties>
</file>