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2FB6-A2E6-4CBF-9E7B-017D8EC75A73}"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47"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035A-D8E8-44F1-8F51-1A8822097A7C}"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3"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3E0B-D405-401D-B37C-454312D4DD4C}"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6"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07C4-D0BD-4C9C-B4B0-747A9C3B51BE}"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9"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8512-16A8-4285-96EE-121D594305D9}"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0"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320E-7258-460C-868E-2F9B8CD38B33}"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72304-9E23-4E7F-A919-5FFBF48BF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624D-0579-46CD-9C8E-1F3942A6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4B763-7E8B-4099-8D44-B3C4747F4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AADF-94B0-4B19-80B3-9278E4E63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37132-3070-460A-AF6D-70147B68C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4CE1D-1F41-4252-8585-FC0D06FAF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E941-EA64-4091-9D34-B1E9BDE70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45222-E296-4080-8CC1-EB17CCAFA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7DE4D-4466-4F40-9411-7EFDB677F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B8B03-6245-4A96-B02C-8CD6F81F6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4B989-722E-4164-B302-7C87113A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F1A7-E69E-480A-92F1-71169FBA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032B-53A2-4556-9749-48D43BD9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26D17-CC09-4D60-BEC9-E0B18732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2304B-3F5B-44F8-8E59-FD0F0E88E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3FC29-95E1-4C67-8CEB-AF9C146D2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6E2C4-2D59-4DD5-B13F-6931ADFF1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FA6E0-7E5C-4053-A6A3-89E21C90C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4B6B5-F05A-4E77-9D56-1F4921E4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6098-20DD-4531-9B7C-C584E133D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21A7-A044-44A7-AD98-312E0AA2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5D62-9ECE-43B4-B97F-9F269B809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3837F-E643-4D6D-BE83-81569389B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3795-F414-47F7-B1E9-8C6C987CD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86D2-6261-46CC-A24A-E2FD4BE40722}"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8768-25E4-401B-B711-9B3C25F22C84}" type="slidenum">
              <a:rPr b="0" lang="tr-TR"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Kan ve vücut sıvısı dökülmesi hallinde uygulanacak temizlik</a:t>
            </a:r>
            <a:endParaRPr b="1" lang="en-US" sz="40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ütün kan ve vücut sıvıları enfekte kabul edilmeli dökülme ve sıçramalarda temizlik güvenli bir şekilde yapılmalıdı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utlaka tek kullanımlık eldiven giyilmelidi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n ve vücut sıvılarının döküldüğü yerden hemen kağıt havlu ile kaba kiri alınır, atıklar kırmızı tıbbi atık poşetine  atılır.</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60224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 banyo ve wc sindeki tüm havlu kağıt, tuvalet kağıdı çöpe atılır, sıvı sabun lavaboya dökülür. </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ıvı sabun kapları 1 litre suya 1 klorsept tabletle hazırlanmış solüsyonlu su içersinde 30 dakika bekletilerek dezenfekte edilir.</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 tuvalet ve banyo temizleme talimatına göre temizledikten sonra tüm yüzeyleri 1 litre suya 1 klorsept tabletle hazırlanmış solüsyonla (duvar fayansları, wc, lavabo, vb. )dezenfekte edilir.</a:t>
            </a:r>
            <a:endParaRPr b="0" lang="en-US" sz="3200" spc="-1" strike="noStrike">
              <a:solidFill>
                <a:srgbClr val="ffffff"/>
              </a:solidFill>
              <a:latin typeface="Garamond"/>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zeminler dezenfekte edili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 bittiğinde yerlerde kaba kir, çöp ve su öbekleri kesinlikle olmaz.</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nın temizliği sırasında çıkan çöp ve çamaşırlar odada bırakılmaz, atık depolarına atılı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da kullanılan kovaların içersinde su bırakılmaz, malzemeler temiz ve düzenli bir şekilde bırakıl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80880" y="1066320"/>
            <a:ext cx="8229600" cy="449604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kinci temizlikte de oda kirli olarak kabul edilir, koruyucu ekipmanlar ve turuncu kod uygulaması devam ede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nın duvar ve camları durulanarak klorsept tabletten arındırılır. </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odada bulunan tüm yüzeyler tekrar 1 litre suya  1 klorsept tabletle hazırlanmış solüsyonla temizden kirliye ilkesine göre silini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anyoda bulunan duvar fayansları da durulanarak klorsept tabletten arındırılır.</a:t>
            </a:r>
            <a:endParaRPr b="0" lang="en-US" sz="3200" spc="-1" strike="noStrike">
              <a:solidFill>
                <a:srgbClr val="ffffff"/>
              </a:solidFill>
              <a:latin typeface="Garamond"/>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wc, lavabo, havlu kağıt ve tuvalet kağıdı takacağı vb. yüzeylerde 1 litre suya  1 klorsept tabletle hazırlanmış solüsyonla dezenfekte ed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oda temiz kabul edilir önlük giyilmesine ve turuncu kod uygulamasına gerek yoktu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en kirli alan dediğimiz yerler hasta yatağı, kapı kolları, elektrik prizleri, hasta wc , lavabosu vb. yerler tekrar 1 litre suya  1 klorsept tabletle hazırlanmış solüsyonla dezenfekte edilir.</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iğer yüzeyler duvar, cam, banyo duvar fayansları genel temizlik maddesiyle silinebilir</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 bittikten sonra oda yerleştirilmelidir. Perdeler, çarşaf takımları, çöp poşetleri takılır tuvalet kağıdı, havlu kağıt ve sıvı sabun doldurulu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turuncu eldivenler, vileda ucu taburcu sonrası enfekte oda temizliği bittikten sonra çöpe atılı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bez kırmızı tıbbı atık çöp poşetine konur ve üzerine enfekte çamaşır etiketi yapıştırılarak kirli deposuna atl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diğer temizlik malzemeleri dezenfekte edildikten sonra depoya kaldır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 temizlik kuralları hiçbir şekilde değiştirilmez, aynı koşullar geçerlidir.</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Garamond"/>
              </a:rPr>
              <a:t>Temizlik Solüsyonları Hazırlanırken Dikkat Edilmesi Gerekenler</a:t>
            </a:r>
            <a:endParaRPr b="1" lang="en-US" sz="4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temizlenen bölgeye uygun oranda hazırlan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işlemden hemen önce hazırlanmalı uzun süre bekletilmemelidi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emizlik malzemeleri kova içinde bırakılma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solüsyon başka bir solüsyonla karıştırılmamalıd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üzeyleri temizlediğimiz kirli dezenfektan solüsyonunu vileda kovasına döküp zemin temizliği kesinlikle yapılmamalıdır,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arklı yüzey temizlikleri için her seferinde yeni dezenfektanlı solüsyon hazırlanır.</a:t>
            </a:r>
            <a:endParaRPr b="0" lang="en-US" sz="3200" spc="-1" strike="noStrike">
              <a:solidFill>
                <a:srgbClr val="ffffff"/>
              </a:solidFill>
              <a:latin typeface="Garamond"/>
            </a:endParaRPr>
          </a:p>
        </p:txBody>
      </p:sp>
      <p:sp>
        <p:nvSpPr>
          <p:cNvPr id="144" name="Dikdörtgen 1"/>
          <p:cNvSpPr/>
          <p:nvPr/>
        </p:nvSpPr>
        <p:spPr>
          <a:xfrm>
            <a:off x="3039840" y="62485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563c1"/>
                </a:solidFill>
                <a:uFillTx/>
                <a:latin typeface="Comic Sans MS"/>
                <a:ea typeface="Calibri"/>
              </a:rPr>
              <a:t>www.egitimhane.com</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ENFEKTE ODA TEMİZLİĞİ</a:t>
            </a:r>
            <a:endParaRPr b="1" lang="en-US" sz="40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 temizliği için kullanılacak tüm temizlik malzemeleri odaya taşınır ve hasta taburcu olana kadar malzemeler kesinlikle dışarı çıkarılmaz. (Turuncu eldiven, kova, bez, vileda kovası, tıbbi atık çöp poşeti, klorsept tablet, lavoba ve wc si varsa gerekli olan bez, kova, eldiven ve kimyasallar hazırlanır)</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ruyucu önlük, eldiven ,maske, kirli</a:t>
            </a:r>
            <a:r>
              <a:rPr b="0" lang="tr-TR" sz="3200" spc="-1" strike="noStrike">
                <a:solidFill>
                  <a:srgbClr val="ffffff"/>
                </a:solidFill>
                <a:latin typeface="Arial"/>
              </a:rPr>
              <a:t>,</a:t>
            </a:r>
            <a:r>
              <a:rPr b="0" lang="tr-TR" sz="3200" spc="-1" strike="noStrike">
                <a:solidFill>
                  <a:srgbClr val="ffffff"/>
                </a:solidFill>
                <a:latin typeface="Garamond"/>
              </a:rPr>
              <a:t> temiz çamaşır sepeti hazır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ümkünse temiz önlük enfekte odanın dışında uygun bir yerde bulundurulur.</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zolasyon odalarına girmeden önce personel ilk önce gömlek giyer, el dezenfektanını sıkar, sonra eldiven giyer. </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ncelikle hastanın durumuna göre kirli yatak çarşaf takımları değiştirilir ve kırmızı tıbbi atık poşetinin içine konur ve üzerine enfekte çamaşır yazılı etiket yapıştırılır ve elimizdeki tek kullanımlık eldiven çöpe atılır. </a:t>
            </a:r>
            <a:endParaRPr b="0" lang="en-US" sz="3200" spc="-1" strike="noStrike">
              <a:solidFill>
                <a:srgbClr val="ffffff"/>
              </a:solidFill>
              <a:latin typeface="Garamond"/>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limize el dezenfektanı sıkılır ve tekrar temiz tek kullanımlık eldiven giyilir ve temiz çarşafları takımları ser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çöpler tıbbi atık çöp poşetine toplanır ve üzerine enfekte atık yazılı etiket yapıştırılı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öp kovalarına temiz tıbbı atık poşeti yerleştirili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irli çöp ve çamaşırlar ağzı sıkıca bağlanmış bir şekilde oda kapısının iç kısmında bekletilir.</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renk kodlaması uygulanır. 1 litre suya 1 klorsept tabletle hazırlanmış solüsyonla hastaya en uzak noktadan hastaya en yakına doğru gelinir. Temizden kirliye prensibine göre tüm yüzeyler temizlenir.</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447920"/>
            <a:ext cx="8229600" cy="4495680"/>
          </a:xfrm>
          <a:prstGeom prst="rect">
            <a:avLst/>
          </a:prstGeom>
          <a:noFill/>
          <a:ln w="0">
            <a:noFill/>
          </a:ln>
        </p:spPr>
        <p:txBody>
          <a:bodyPr anchor="t">
            <a:normAutofit fontScale="94000"/>
          </a:bodyPr>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 son hasta yatağı, elektrik prizleri ve kapı kolları silin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içersinde hasta lavabosu ve wc si varsa hasta odası tuvalet ve banyo temizleme talimatına göre temizledikten sonra tüm yüzeyleri 1 litre suya 1 klorsept tabletle hazırlanmış solüsyonla dezenfekte edilmelid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zemini dezenfektanlı solüsyonla paspas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ezenfektan kullanılan yüzeylere durulama ve kurulama yapılmaz. Durulanması gerekiyorsa 30 dk. yüzeye temas ettikten sonra durulanabili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vaların içersindeki solüsyonlar dökülür, tüm malzemeler temiz ve düzenli bir şekilde bırakılı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dan çıkarken ilk önce eldiven daha sonra önlük çıkartılır ve el antiseptiği sıkılır.</a:t>
            </a: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Rectangle 5"/>
          <p:cNvSpPr/>
          <p:nvPr/>
        </p:nvSpPr>
        <p:spPr>
          <a:xfrm>
            <a:off x="2133720" y="2133720"/>
            <a:ext cx="4572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ışarıya çıktığımızda temiz tıbbı atık poşeti, tek kullanımlık eldiven etiket ve koli bandı hazırlanır.</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tık çöpler ve çamaşırlar odadan çıkartılırken öncelikle elimize tek kullanımlık eldiven giyilir, dışarıda temiz poşetin içine atıklar tekrar konur ve ağzı sıkıcı kapatılıp enfekte çöp ve çamaşır etiketi ve nereden gittiğini belirten bir etiket yapıştırılır ve hiç bekletilmeden ve asansör kullanmadan  depo alanlarına atılır. </a:t>
            </a:r>
            <a:endParaRPr b="0" lang="en-US" sz="3200" spc="-1" strike="noStrike">
              <a:solidFill>
                <a:srgbClr val="ffffff"/>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3300"/>
                </a:solidFill>
                <a:latin typeface="Garamond"/>
              </a:rPr>
              <a:t>TABURCU SONRASI ENFEKTE HASTA ODASI TEMİZLİĞİ</a:t>
            </a:r>
            <a:endParaRPr b="1" lang="en-US" sz="32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te tüm tekstil ürünleri, çarşaf takımları, yorgan, yastık, perdeler de dahil olmak üzere kırmızı tıbbı atık çöp poşetine konur.</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çerde bulunan temiz box gömleği, enfekte önlüğü de dahil olmak üzere sadece temizlik esnasında ihtiyacımız olan koruyucu önlük sayısı kadar ayrılır diğerleri tıbbı atık çöp poşetinin içersinde ağzı sıkıca bağlı bir şekilde üzerine etiket yazılarak çamaşır deposuna atıl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f KIRBAŞ</dc:creator>
  <dc:description/>
  <dc:language>en-US</dc:language>
  <cp:lastModifiedBy>Progressive</cp:lastModifiedBy>
  <dcterms:modified xsi:type="dcterms:W3CDTF">2020-08-12T09:20:4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