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2DC-E6C8-49DF-97E8-89397E1D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949-EED6-4957-BE91-DB3A7696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23F-CC67-4FB5-9E6D-717FC40A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732-5524-43BD-91C2-0EC17B19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24C-8119-4FF0-8173-1756561C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B59-5E1F-4282-A364-521AEC5F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9F2-68D9-4F58-81DF-FAE484B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AD1B-D3CA-4979-A082-D5B40525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0F75-728A-4FC2-8D5D-FD82EB6E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86D-FE7B-44B1-868E-9A7BB3E1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1ADC-63AF-4ED2-9886-AD443C9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8EE-125B-4754-8AA1-6B6D7C3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AFEB-0E23-444D-B8AC-2B3564C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E74-75CA-4608-9474-93FDC5C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07D-1D13-49A0-8444-9EDC53D6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AB68-44EB-4D9E-AA8F-87F879FB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5453-6E1E-4561-9E1D-AC60E413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3B7-2F06-47C9-90F5-8B967A7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1C3-228C-48D5-837C-2DC53196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2FA-6F74-4621-AE3B-27DCF84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3C4-F60F-445D-A4B4-A93C9A6F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B11-B12A-4D0D-9091-D5B16B6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5F8-299D-4A6F-BA14-478F6A2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A7A-2465-46A7-95D9-4D967B9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3A4-1C25-41D6-BE61-F4A167E27326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C3E-7613-41CD-A7BF-B3481F846F98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KULLANILAN DEZENFEKTANLA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b9efee"/>
                </a:solidFill>
                <a:latin typeface="Garamond"/>
              </a:rPr>
              <a:t>Temizlikte Temel ilkel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temizden kirliye doğru yapıl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her bölüm için fark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hareketlilik başlamadan önce yap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yukarıdan aşağı doğru yap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solüsyonu temizlenen bölgenin risk durumuna göre hazırl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enecek alana göre kova ve bez rengi belirle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bitiminde malzemeler uygun şekilde yıkanıp kurutulu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kova içinde ve ıslak bırak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ddeleri ve dezenfektanlar birbiri ile karıştır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uvaletler en son temizle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ru süpürme, silkeleme yap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/dezenfektan çözeltileri  kirlendiğinde,  her hasta odasında kullanımdan sonra, izolasyon odasında kullanımdan sonra (koruyucu izolasyon hariç) koruyucu izolasyon odasında kullanımdan önce değiştirilmelid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LORSEPT TAB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ullanımı: 5 litreye 1 tablet ya da enfekte hasta odasının temizliğinde 1 litreye 1 tab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Bekleme süresi: 30 dak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ÇAMAŞIR SUYU: 1 LİTREDE 100 CC YANİ 900 CC SU+100 CC ÇAMAŞIR SUY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lor tabletlerin kullanım bölgeleri: TRANSPLANTASYON SERVİSİ, YOĞUN BAKIMLAR, AMELİYATHANE,LABARATUVARLAR VE ENFEKSİYON HEMŞİRELİĞİ TARAFINDAN BİLDİRİLEN BULAŞICI HASTALIĞI OLAN HASTALAR (TBC,V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ENFEKTE ODA TEMİZLİĞİ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Oda temizliği için kullanılacak tüm temizlik malzemeleri odaya taşınır ve hasta taburcu olana kadar malzemeler odada ka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zolasyon odalarına girmeden önce personel ilk önce gömlek daha sonra eldiven giy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Personel ellerini yıkar ve eldiven giy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uruncu renk kodlaması uygul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üm çöpler tıbbi atık çöp poşetine toplanır ve üzerine enfekte  yazılı etiket yapıştır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Çöp kovaları kirlenmişse dezenfekte edilir ve temiz poşet yerleştiril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Yatak çarşafları toplanır ve yeşil tıbbi atık poşetine konur ve üzerine enfekte çamaşır yazılı etiket yapıştırıl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Tüm yüzeyler dezenfektanlı solüsyonla silin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Temiz çamaşır seril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Yerler dezenfektanlı solüsyonla paspaslan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Dezenfektan kullanılan yüzeylere durulama ve kurulama yapılmaz. Dezenfektanın metal yüzeylerden durulanması gerekiyorsa 30 dk. yüzeye temas ettikten sonra durulanmalıd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Odadan çıkarken ilk önce eldiven daha sonra önlük çıkartılır ve el antiseptiği sıkılı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Atık çöpler ve çamaşırlar odadan çıkartılırken dışarıda temiz poşetin içine tekrar konur ve ağzı sıkıcı kapatılıp etiket yapıştırılır ve hiç bekletilmeden ve asansör kullanmadan  hastane dışındaki depo alanlarına atılı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Yatan hastada enfekte oda temizliği 24 saatte 3 defa yapılmakta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aburcu sonrası enfekte oda temizliği 6 saat içersinde 3 kez tüm yüzeyler silinerek yapıl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lk temizlikte tüm tekstil ürünleri, perdelerde dahil olmak üzere kırmızı tıbbı atık poşetine konur ve üzerine enfekte çamaşır yazılarak çamaşır deposuna atılır. Kirliye atılan çamaşırlarla ilgili tutanak tutulu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lk temizlikte tüm duvarlar camlar klorsept tabletle yıkanır, durulanmadan bırak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Tüm elektronik cihazlar klorsept tabletle yıkanmış iyice sıkılmış nemli bezle silinir.Kesinlikle suyun içersine atılm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Onun dışında kalan tıbbı malzemeler (derece, kulaktan ateş ölçer uçlar, ilaç şişeleri vb..) klorsept tabletle hazırlanmış solüsyonun içersinde 30 dk bekletil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ilmediğiniz aletlerle ilgili yanlış bir şey yapmamak için hemşire hanımlara danışılı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nyodaki tüm fayanslar ve zeminler klorsept tabletle yıkanı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nyo ve tuvalette bulunan havlu kağıt, tuvalet kağıdı atılır, sıvı sabun dökülür ve dezenfekte edil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kinci temizlikte duvarlar ve camlar durulanarak silinir ve kurulanır. Onun dışındaki odada bulunan tüm eşyalar tekrar klor tabletle sili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Üçüncü temizlikte ise en çok kullanılan kapı kolları, elektrik prizleri vb. yerler tekrar klorsept tabletli su ile temizlenir diğer yüzeyler durulanır, kurulanır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n temizlikte yerleştirilmeli ve hasta kabul edilecek duruma getirilmelidir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llanılan temizlik malzemeleri dezenfekte edildikten sonra depoya teslim edil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b9efee"/>
                </a:solidFill>
                <a:latin typeface="Garamond"/>
              </a:rPr>
              <a:t>Temizlik Solüsyonlarının Hazırlanması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lüsyon temizlenen bölgeye uygun oranda hazırlan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lüsyon işlemden hemen önce hazırlanmalı uzun süre bekletilmemelid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kova içinde bırakılma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llanılan solüsyon başka bir solüsyonla karıştırılma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Diğer bir odaya geçmeden önce toz kovalarının içersindeki sular dökülür, kova çalkalanır ve temizlik bezleri yık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5-09-30T09:23:1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