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B3B-96B7-48D8-9E2C-5B2D8BC42444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AA0-5231-4F34-9108-A82E0C7181F3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F01-612C-4FDF-805E-63F2BEA2BC9B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D355-1D4D-4127-B393-6FC8627A2913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1F7-F160-4F1F-8C9A-74A2C63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D1B-6E4C-4043-9DDC-98A16AB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C53-4D80-45EA-9FBC-C420D37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E78-A7EB-4FE9-ADE0-237B7481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0DF6-10E1-45B6-9A45-1AE0E011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E81-63D5-486C-8D90-76F5E3D1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F64-B9FD-4721-A014-94D5ECB3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8D88-7310-4373-B21B-F11D4E3F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5E0-29C2-4466-A17D-2F29C067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3CE2-055B-4B58-B90F-9D58400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3FD0-8289-4B25-B840-1B0A06C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B8E-69F2-4A5A-8FD4-D3D48A7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764-1580-47CD-B517-434C5874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B4B2-60E4-4D74-90EA-8C96F92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EEED-8623-40BB-A5F6-7AEB90E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77CA-3770-4B28-B1DB-18EA6D58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092-DE8B-473A-BE3E-8D3F78AE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83C-CD2A-4E35-9DA1-D0FF9782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03B-BD8D-4AE9-959D-3C741D45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8A8-43DE-48CA-9CA5-2ECDC6B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93E-435B-470E-8F58-67A9B859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C57-17C0-47FA-92A8-81FA82E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0B4-7993-491B-85FB-4CAD6B1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B1D-DC32-4DB2-B2ED-05795B3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CDAA-8E5D-48B7-9FBD-416A2C85374D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228-C3DC-4ACB-B5CE-117C281B277F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3" descr="pwnzpfim[1]"/>
          <p:cNvPicPr/>
          <p:nvPr/>
        </p:nvPicPr>
        <p:blipFill>
          <a:blip r:embed="rId1"/>
          <a:stretch/>
        </p:blipFill>
        <p:spPr>
          <a:xfrm>
            <a:off x="1547640" y="1766880"/>
            <a:ext cx="612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Arial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astalık yapan mikroorganizmalar kişiden kişiye </a:t>
            </a:r>
            <a:r>
              <a:rPr b="0" lang="tr-TR" sz="3200" spc="-1" strike="noStrike" u="sng">
                <a:solidFill>
                  <a:srgbClr val="ff0033"/>
                </a:solidFill>
                <a:uFillTx/>
                <a:latin typeface="Arial"/>
              </a:rPr>
              <a:t>en çok eller yolu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ile bulaşmakta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ijyenik el yıkamanın amacı, eller üzerinde bulunan geçici bakterilerin tamamını, kalıcı bakterilerin ise bir kısmını ellerden uzaklaştırmaktı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6148440" y="152280"/>
            <a:ext cx="238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 iyi el yıkama işlemi bol suda ve sabunla, bilekleri de içine alacak şekilde avuç içi, parmak araları, parmak uçları ve özellikle tırnak dipleri iyice temizlenecek şekilde olmalıdı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ıkama ve durulama sonrasında nemli kalmaması için temiz bir havlu ile kuru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yıkama prosedürü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önce ısl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3-5 ml antiseptik içeren veya içermeyen sıvı sabun alı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Her iki elin tüm yüzeyleri ve parmaklar yaklaşık 30 saniye ovulu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durula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 havlu ile kurulanı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ullanılan havlu ile musluk kap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havlu el değmeden pedallı çöp kutusuna 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Avrupa EN 1500 El Yıkama Prosedür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425600" y="1905120"/>
            <a:ext cx="7230960" cy="4697280"/>
            <a:chOff x="1425600" y="1905120"/>
            <a:chExt cx="7230960" cy="4697280"/>
          </a:xfrm>
        </p:grpSpPr>
        <p:pic>
          <p:nvPicPr>
            <p:cNvPr id="132" name="Picture 4" descr="EL-5"/>
            <p:cNvPicPr/>
            <p:nvPr/>
          </p:nvPicPr>
          <p:blipFill>
            <a:blip r:embed="rId1"/>
            <a:stretch/>
          </p:blipFill>
          <p:spPr>
            <a:xfrm>
              <a:off x="1425600" y="1905120"/>
              <a:ext cx="7230960" cy="46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"/>
            <p:cNvSpPr/>
            <p:nvPr/>
          </p:nvSpPr>
          <p:spPr>
            <a:xfrm>
              <a:off x="1555560" y="609300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4057560" y="6093000"/>
              <a:ext cx="192492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49184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6496560" y="378936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05756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431400" y="616572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El yıkama ve El Antiseptiklerini Kullanma Endikasyonları</a:t>
            </a: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ler eğer gözle görülür şekilde kirlenmişse su ve sabun ile yık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ğer eller gözle görülen bir şekilde kirlenmemiş ise alkol bazlı el antiseptikleri kullanılabili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el hijyeni yerini alma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giyilse bile çıkardıktan sonra el hijyeni sağ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Eldiven Kullanımında Dikkat Edilmesi </a:t>
            </a:r>
            <a:br>
              <a:rPr sz="2800"/>
            </a:b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  Gereken Durum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 işlem için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mutlaka gerekl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erekli is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sadece o işlem iç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den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hemen önce 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iyilme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ittiği anda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çıkarıl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eldiven il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aşka hiçbir yere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dokunulma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hasta üzerinde farklı bölgelere işlem yapılırken ya da bir hastadan diğer hastaya geçilirk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5840" y="20178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Ellerinizi yıkayarak kendinizi ve hastaları İnfeksiyonlardan koruyunuz. Eliniz temiz, içiniz rahat olsun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ikdörtgen 1"/>
          <p:cNvSpPr/>
          <p:nvPr/>
        </p:nvSpPr>
        <p:spPr>
          <a:xfrm>
            <a:off x="3268440" y="6400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563c1"/>
                </a:solidFill>
                <a:uFillTx/>
                <a:latin typeface="Comic Sans MS"/>
                <a:ea typeface="Calibri"/>
              </a:rPr>
              <a:t>www.egitimhane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essive</cp:lastModifiedBy>
  <dcterms:modified xsi:type="dcterms:W3CDTF">2020-08-12T09:20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