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7F8-EDA6-4CA6-97FA-DE8E0389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363-40D1-4301-9BB4-52BAB46E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B04-872D-437C-B9E3-6CFC1C65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CD6-5235-485C-9352-3961B5A8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9BC9-54B2-4298-97F6-4015FB6B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277-9CDE-4EAB-8951-A64D3338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1F4D-F069-45A6-A730-7262CC9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7894-9838-4FBB-91EA-67693FC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F53-A1EE-48BB-A2AC-4BBFDF42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D4DD-BF67-453F-9953-E723EA5D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FF0-BCA8-4583-BB16-B2F1884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482-0E05-4F15-A95E-80DFD416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69AD-76CA-45F2-BA0D-D33B646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834C-6ABA-4E39-9E8E-858E870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CAF8-D963-4B8F-B54C-26D46503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696-F0C8-471D-9E10-36B6910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98A-91CE-4F2B-B965-0F65475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BD0-6FCF-4F13-B805-25D5899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5E6-AB23-49A1-AE75-DEEC5A1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915-8188-47C4-AB0D-71D6C0F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23D-4431-481A-B3CB-24E5A0FA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468-E4A9-47F7-84E8-1354A90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11E-C321-405C-A352-FF15912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D2F-CF16-4A09-B657-69E2D0B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97F-35C1-4591-B534-BEDC43138CDC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7CAB-9FED-4A38-80E2-5F311B2A9F59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sim 15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1251000" cy="1246320"/>
          </a:xfrm>
          <a:prstGeom prst="rect">
            <a:avLst/>
          </a:prstGeom>
          <a:ln w="0">
            <a:noFill/>
          </a:ln>
        </p:spPr>
      </p:pic>
      <p:pic>
        <p:nvPicPr>
          <p:cNvPr id="152" name="5 Resim" descr="Yeni Resim (5).bmp"/>
          <p:cNvPicPr/>
          <p:nvPr/>
        </p:nvPicPr>
        <p:blipFill>
          <a:blip r:embed="rId2"/>
          <a:stretch/>
        </p:blipFill>
        <p:spPr>
          <a:xfrm>
            <a:off x="6324480" y="838080"/>
            <a:ext cx="1154160" cy="1257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/>
          <p:cNvSpPr/>
          <p:nvPr/>
        </p:nvSpPr>
        <p:spPr>
          <a:xfrm>
            <a:off x="1600200" y="304920"/>
            <a:ext cx="2556000" cy="2209680"/>
          </a:xfrm>
          <a:prstGeom prst="roundRect">
            <a:avLst>
              <a:gd name="adj" fmla="val 16667"/>
            </a:avLst>
          </a:prstGeom>
          <a:solidFill>
            <a:srgbClr val="365f91"/>
          </a:soli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286000" y="1219320"/>
            <a:ext cx="1141560" cy="261720"/>
          </a:xfrm>
          <a:prstGeom prst="rect">
            <a:avLst/>
          </a:prstGeom>
          <a:solidFill>
            <a:srgbClr val="365f91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MAVİ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09480" y="2743200"/>
            <a:ext cx="7848720" cy="25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Narrow"/>
              </a:rPr>
              <a:t>MAVİ BEZ-MAVİ KOVA-MAVİ ELDİVEN: Masa, etajer, yatak, cam önü, cam ve kapı kolları, çalışma ofisi vb. temiz alanlarda kullanılı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066680" y="457200"/>
            <a:ext cx="3011760" cy="2133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Resim 1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1257480" cy="1251000"/>
          </a:xfrm>
          <a:prstGeom prst="rect">
            <a:avLst/>
          </a:prstGeom>
          <a:ln w="0">
            <a:noFill/>
          </a:ln>
        </p:spPr>
      </p:pic>
      <p:pic>
        <p:nvPicPr>
          <p:cNvPr id="158" name="7 Resim" descr="Yeni Resim (6).bmp"/>
          <p:cNvPicPr/>
          <p:nvPr/>
        </p:nvPicPr>
        <p:blipFill>
          <a:blip r:embed="rId2"/>
          <a:stretch/>
        </p:blipFill>
        <p:spPr>
          <a:xfrm>
            <a:off x="5791320" y="1066680"/>
            <a:ext cx="1154160" cy="1187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447920" y="1371600"/>
            <a:ext cx="2209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AR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62120" y="2743200"/>
            <a:ext cx="7696080" cy="251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SARI BEZ-SARI KOVA-SAR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ve banyolardaki 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duş teknesi, küvet, fayans,  ayna, bataryalar, kağıt dağıtıcıları, kapı kolları ve elektrik armatürleri  temizliğinde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1447920" y="609480"/>
            <a:ext cx="2630520" cy="1944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Resim 2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123804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9 Resim" descr="Yeni Resim (4).bmp"/>
          <p:cNvPicPr/>
          <p:nvPr/>
        </p:nvPicPr>
        <p:blipFill>
          <a:blip r:embed="rId2"/>
          <a:stretch/>
        </p:blipFill>
        <p:spPr>
          <a:xfrm>
            <a:off x="5943600" y="1295280"/>
            <a:ext cx="1133640" cy="125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600200" y="1447920"/>
            <a:ext cx="2362320" cy="380880"/>
          </a:xfrm>
          <a:prstGeom prst="rect">
            <a:avLst/>
          </a:prstGeom>
          <a:solidFill>
            <a:srgbClr val="c000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KIRMIZ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7200" y="3048120"/>
            <a:ext cx="7696080" cy="2514600"/>
          </a:xfrm>
          <a:prstGeom prst="rect">
            <a:avLst/>
          </a:prstGeom>
          <a:solidFill>
            <a:srgbClr val="c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KIRMIZI BEZ-KIRMIZI KOVA-KIRMIZ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 ve Banyolardaki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 klozet, pisuar  ve sifon tankı temizliğinde 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990720" y="457200"/>
            <a:ext cx="3011400" cy="2173320"/>
          </a:xfrm>
          <a:prstGeom prst="roundRect">
            <a:avLst>
              <a:gd name="adj" fmla="val 16667"/>
            </a:avLst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Yeni Resim (1)"/>
          <p:cNvPicPr/>
          <p:nvPr/>
        </p:nvPicPr>
        <p:blipFill>
          <a:blip r:embed="rId1"/>
          <a:stretch/>
        </p:blipFill>
        <p:spPr>
          <a:xfrm>
            <a:off x="4267080" y="1219320"/>
            <a:ext cx="1238400" cy="148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115236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066680" y="1447920"/>
            <a:ext cx="2895840" cy="533160"/>
          </a:xfrm>
          <a:prstGeom prst="rect">
            <a:avLst/>
          </a:prstGeom>
          <a:solidFill>
            <a:srgbClr val="e36c0a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TURUNCU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90720" y="3200400"/>
            <a:ext cx="6377040" cy="2438280"/>
          </a:xfrm>
          <a:prstGeom prst="rect">
            <a:avLst/>
          </a:prstGeom>
          <a:solidFill>
            <a:srgbClr val="e36c0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TURUNCU BEZ-TURUNCU KOVA-TURUNCU ELDİVEN: Hastanedeki tüm enfekte alanların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Poşet Eldiven: Hasta teması vb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hastadan personele bulaşın söz konusu olmadığı durumlarda ve yere dökülen hasta çıkartılarının havlu kağıt ile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Dalhausen eldiven: Acinetobacterli, VRE'li hastalarda, enfeksiyon bölümünün izole ettirdiği hastalarda, gaita temizliğinde kullanılabil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6-02-04T11:19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