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6408-0413-4A82-BD6B-BB14D841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CD3-F9F2-4023-B8E3-B3183841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D51-8E23-4A13-9CC8-E1F9CF9E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660-ABCD-466E-B7F3-DC2851DE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209-9473-4A01-978D-DFF12777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23C-705D-4FC1-95E6-71EA353F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44C-9DA9-4A4F-95FE-19E6278B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C3D-17D3-41C9-AB61-963B1345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9A8-CA47-401B-8FD7-CBBBC950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F8C-FE04-4764-A3B1-86B56139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760-90F7-4D40-9014-07F863D5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57F-7E31-46EB-A58B-A47BBC8C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0B61-FD01-4959-A84A-3056E9213B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238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ASPAS  ATMA EĞİTİMİ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Picture 5" descr="MMj03566130000[1]"/>
          <p:cNvPicPr/>
          <p:nvPr/>
        </p:nvPicPr>
        <p:blipFill>
          <a:blip r:embed="rId2"/>
          <a:stretch/>
        </p:blipFill>
        <p:spPr>
          <a:xfrm>
            <a:off x="3352680" y="3809880"/>
            <a:ext cx="1656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aspas atmada kullanılacak malzemeler eksiksiz olarak hazırlan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lzeme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ift Kovalı döner pres arab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slak paspas aparatı ve paspas bez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ru mob aparatı ve bez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095880" y="4952880"/>
            <a:ext cx="1500480" cy="1571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2057400" y="5029200"/>
            <a:ext cx="17384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Su ve temizlik solüsyo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Faraş ve fırç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Çöp poşe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Uyarıcı lev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6192720" y="33354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3572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MCj03713400000[1]"/>
          <p:cNvPicPr/>
          <p:nvPr/>
        </p:nvPicPr>
        <p:blipFill>
          <a:blip r:embed="rId4"/>
          <a:stretch/>
        </p:blipFill>
        <p:spPr>
          <a:xfrm>
            <a:off x="4267080" y="1600200"/>
            <a:ext cx="181296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mizlik personeli işe başlamadan önce sarı renkli eldiveni giy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andalye, çöp kovası vb. gibi temizliği engelleyecek eşyalar kaldırıl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aspas işlemine geçmeden önce kuru mob ile yüzeydeki kaba kirler toplanır ve bir köşede biriktirilir, faraş ve fırça yardımıyla çöp poşetine atıl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ru süpürme yapılma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5943600" y="4876920"/>
            <a:ext cx="1228680" cy="1228680"/>
          </a:xfrm>
          <a:prstGeom prst="rect">
            <a:avLst/>
          </a:prstGeom>
          <a:ln w="0">
            <a:noFill/>
          </a:ln>
        </p:spPr>
      </p:pic>
      <p:sp>
        <p:nvSpPr>
          <p:cNvPr id="52" name="8 Düz Bağlayıcı"/>
          <p:cNvSpPr/>
          <p:nvPr/>
        </p:nvSpPr>
        <p:spPr>
          <a:xfrm>
            <a:off x="5715000" y="4429080"/>
            <a:ext cx="2214720" cy="2428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8 Düz Bağlayıcı"/>
          <p:cNvSpPr/>
          <p:nvPr/>
        </p:nvSpPr>
        <p:spPr>
          <a:xfrm>
            <a:off x="5867280" y="4581360"/>
            <a:ext cx="2214720" cy="2428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8 Düz Bağlayıcı"/>
          <p:cNvSpPr/>
          <p:nvPr/>
        </p:nvSpPr>
        <p:spPr>
          <a:xfrm>
            <a:off x="5715000" y="4429080"/>
            <a:ext cx="2214720" cy="2428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10 Düz Bağlayıcı"/>
          <p:cNvSpPr/>
          <p:nvPr/>
        </p:nvSpPr>
        <p:spPr>
          <a:xfrm flipH="1">
            <a:off x="5715000" y="4357800"/>
            <a:ext cx="1571760" cy="2500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429000" y="5562720"/>
            <a:ext cx="12384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ncellikle çift kovalı ve presli paspas setinin temiz su kovası (mavi) 2/3 oranında temiz su ile doldurulur ve ½ ped bardak genel temizlik maddesi kon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rli kovaya (kırmızı) 1/3 oranında temiz su kon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Cilalı yüzeylerde genel temizlik maddesi yerine cila bakım maddesi kullanılır.( 1 çay bardağı cila bakım maddesi konu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aspas bezi mavi kova içerisindeki su ile ıslatılır preste sıkılır. Presimiz kırmızı kovanın üzerine getiril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üzey “S” hareketi çizilerek temizlenir.Paspasın bir yüzü kirlendiğinde diğer yüzü çevrilerek paspaslamaya devam edil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uvar kenarları ve süpürgelikleri paralel hatlar çizilerek temizlen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rlenen paspas bezi kırmızı kovada yıkanarak pres ile sıkılır daha sonra mavi kovada yıkanarak tekrar sıkıl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İşleme devam ederken mavi kovadaki su giderek azalacak, kırmızı kovadaki su ise artacakt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vi ve kırmızı kovadaki sular eşitlendiğinde sular boşaltılmalı; kovalar su ile çalkalanmalı ve yeniden temiz su ile doldurulmalıdı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slak paspaslama işlemi bittikten sonra zemin temiz kuru mob ile kurulanmalıdı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aspaslama işlemi bittikten sonra kovalar içersindeki sular boşaltılır, kovalar yıkanarak durulan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lan paspas bezi ve moblar kirli poşetine konularak yıkanması için kirli çamaşır deposuna götürülü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lanılan malzemeler temiz ve düzenli bir şekilde temizlik deposuna kaldırıl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bru.ertuna</cp:lastModifiedBy>
  <dcterms:modified xsi:type="dcterms:W3CDTF">2014-03-11T13:01:5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