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0B4-1A60-4242-BE2B-33F6AED5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DDE-E98B-4A8F-BA67-35F025F9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284-FC36-4517-96FA-0C8A7606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514-A89B-428C-942B-4F51F50D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7D3C-9C28-4D3F-B4D3-F1B4FA57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F621-2EC8-417C-9683-357A4DB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53D0-ED81-46BB-9D40-079FF99B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8BE7-97EA-40B4-9F94-FE7AD63E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AF8E-B2AC-46D0-95E0-7C273928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70DD-A2C3-43BC-ADD5-CE4565B9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10B5-DB7B-4EF0-9490-DEC2825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136-B3FF-4B32-82D9-BFAEF2D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E06D-9E92-4C1D-984F-A5E3933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D008-9250-40BC-A026-2A77735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AF52-6E40-433E-877D-B9F9E6A8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3DBF-E2EF-494F-90BC-C5D917B3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0A5F-AA47-479E-A9A7-EADDA6C4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700-F490-4FFD-AC90-6A457EF3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0B7-5AEE-4DE3-9F47-2944477F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710-4534-47F3-BAED-26F1E88F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24D-8E37-4AD4-ADB1-DE0300C3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DDE-83B9-467E-AE57-3AF2E7B1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4AB-8C23-4DC6-B25B-AB54CF05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352-0FCC-4EA1-8A54-BD57367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68A2-4F6E-4DA9-9C1D-DA678BC7A677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8E19-B580-4FBB-AEC8-D2909B74980D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b9efee"/>
                </a:solidFill>
                <a:latin typeface="Garamond"/>
              </a:rPr>
              <a:t>KARŞILAŞILAN HATALI UYGULAMALA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Sabunlukların boşalınca direk doldurulmas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Yere kan ya da herhangi bir hasta çıkartısı bulaştığında paspas yapılmas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Çöp toplarken eldivenlerle kapı kollarına dokunulmas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Temizlikte temizden kirliye ilkesine uyulmadan öncelikle enfekte hastanın odasının temizlenmes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Dezenfektanların ölçülmeden göz kararı kullan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 kovalarına koyulacak suların ölçülmeksizin koyu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Hasta bakım ortamında kuru süpürme işleminin yap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uvaletlerde dezenfektan kullanım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uvaletlerde antiseptik sabun kullanım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divenlerin amaç dışı kullanımı (poşet eldiven, kırmızı ve sarı eldivenl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te deterjan ve dezenfektanların karıştırılması( çamaşır suyu+ovucu ya da genel temizlik maddesi+klor table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Dezenfektanları yanlış kullan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te odalar arası ya da bölümler arası su değişiminin yapılma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 sonrası ya da gün bitiminde temizlik malzemelerinin kirli ve ıslak bırak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irli çarşaf ve giysilerin yerlere at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irli çarşafların poşete konulmaksızın kucakta taşın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if KIRBAŞ</dc:creator>
  <dc:description/>
  <dc:language>en-US</dc:language>
  <cp:lastModifiedBy>Elif KIRBAŞ</cp:lastModifiedBy>
  <dcterms:modified xsi:type="dcterms:W3CDTF">2020-08-08T20:15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