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1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0"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0531E-FFD2-4272-9898-AAFCA5BA3446}" type="slidenum">
              <a:rPr b="0" lang="tr-TR"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371600" y="1143000"/>
            <a:ext cx="4114800" cy="3086280"/>
          </a:xfrm>
          <a:prstGeom prst="rect">
            <a:avLst/>
          </a:prstGeom>
          <a:ln w="0">
            <a:noFill/>
          </a:ln>
        </p:spPr>
      </p:sp>
      <p:sp>
        <p:nvSpPr>
          <p:cNvPr id="14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u="sng">
                <a:solidFill>
                  <a:srgbClr val="000000"/>
                </a:solidFill>
                <a:uFillTx/>
                <a:latin typeface="Calibri"/>
              </a:rPr>
              <a:t>www.egitimhane.com</a:t>
            </a:r>
            <a:endParaRPr b="0" lang="en-US" sz="1200" spc="-1" strike="noStrike">
              <a:solidFill>
                <a:srgbClr val="000000"/>
              </a:solidFill>
              <a:latin typeface="Calibri"/>
            </a:endParaRPr>
          </a:p>
        </p:txBody>
      </p:sp>
      <p:sp>
        <p:nvSpPr>
          <p:cNvPr id="147" name="Slayt Numarası Yer Tutucus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8E3E-36EA-46F9-9B98-D2DAA454071A}" type="slidenum">
              <a:rPr b="0" lang="tr-T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1143000"/>
            <a:ext cx="4114800" cy="3086280"/>
          </a:xfrm>
          <a:prstGeom prst="rect">
            <a:avLst/>
          </a:prstGeom>
          <a:ln w="0">
            <a:noFill/>
          </a:ln>
        </p:spPr>
      </p:sp>
      <p:sp>
        <p:nvSpPr>
          <p:cNvPr id="15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u="sng">
                <a:solidFill>
                  <a:srgbClr val="000000"/>
                </a:solidFill>
                <a:uFillTx/>
                <a:latin typeface="Calibri"/>
              </a:rPr>
              <a:t>www.egitimhane.com</a:t>
            </a:r>
            <a:endParaRPr b="0" lang="en-US" sz="1200" spc="-1" strike="noStrike">
              <a:solidFill>
                <a:srgbClr val="000000"/>
              </a:solidFill>
              <a:latin typeface="Calibri"/>
            </a:endParaRPr>
          </a:p>
        </p:txBody>
      </p:sp>
      <p:sp>
        <p:nvSpPr>
          <p:cNvPr id="153" name="Slayt Numarası Yer Tutucus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A1CA4-77B5-40CF-B14C-A09781EA2F73}" type="slidenum">
              <a:rPr b="0" lang="tr-T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371600" y="1143000"/>
            <a:ext cx="4114800" cy="3086280"/>
          </a:xfrm>
          <a:prstGeom prst="rect">
            <a:avLst/>
          </a:prstGeom>
          <a:ln w="0">
            <a:noFill/>
          </a:ln>
        </p:spPr>
      </p:sp>
      <p:sp>
        <p:nvSpPr>
          <p:cNvPr id="15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u="sng">
                <a:solidFill>
                  <a:srgbClr val="000000"/>
                </a:solidFill>
                <a:uFillTx/>
                <a:latin typeface="Calibri"/>
              </a:rPr>
              <a:t>www.egitimhane.com</a:t>
            </a:r>
            <a:endParaRPr b="0" lang="en-US" sz="1200" spc="-1" strike="noStrike">
              <a:solidFill>
                <a:srgbClr val="000000"/>
              </a:solidFill>
              <a:latin typeface="Calibri"/>
            </a:endParaRPr>
          </a:p>
        </p:txBody>
      </p:sp>
      <p:sp>
        <p:nvSpPr>
          <p:cNvPr id="156" name="Slayt Numarası Yer Tutucus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0B737-DE0D-45DE-93DE-25C3E58802E9}" type="slidenum">
              <a:rPr b="0" lang="tr-T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1143000"/>
            <a:ext cx="4114800" cy="3086280"/>
          </a:xfrm>
          <a:prstGeom prst="rect">
            <a:avLst/>
          </a:prstGeom>
          <a:ln w="0">
            <a:noFill/>
          </a:ln>
        </p:spPr>
      </p:sp>
      <p:sp>
        <p:nvSpPr>
          <p:cNvPr id="15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u="sng">
                <a:solidFill>
                  <a:srgbClr val="000000"/>
                </a:solidFill>
                <a:uFillTx/>
                <a:latin typeface="Calibri"/>
              </a:rPr>
              <a:t>www.egitimhane.com</a:t>
            </a:r>
            <a:endParaRPr b="0" lang="en-US" sz="1200" spc="-1" strike="noStrike">
              <a:solidFill>
                <a:srgbClr val="000000"/>
              </a:solidFill>
              <a:latin typeface="Calibri"/>
            </a:endParaRPr>
          </a:p>
        </p:txBody>
      </p:sp>
      <p:sp>
        <p:nvSpPr>
          <p:cNvPr id="159" name="Slayt Numarası Yer Tutucus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F688A-2FDF-4F5A-9646-BE12711FCBF9}" type="slidenum">
              <a:rPr b="0" lang="tr-T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371600" y="1143000"/>
            <a:ext cx="4114800" cy="3086280"/>
          </a:xfrm>
          <a:prstGeom prst="rect">
            <a:avLst/>
          </a:prstGeom>
          <a:ln w="0">
            <a:noFill/>
          </a:ln>
        </p:spPr>
      </p:sp>
      <p:sp>
        <p:nvSpPr>
          <p:cNvPr id="14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u="sng">
                <a:solidFill>
                  <a:srgbClr val="000000"/>
                </a:solidFill>
                <a:uFillTx/>
                <a:latin typeface="Calibri"/>
              </a:rPr>
              <a:t>www.egitimhane.com</a:t>
            </a:r>
            <a:endParaRPr b="0" lang="en-US" sz="1200" spc="-1" strike="noStrike">
              <a:solidFill>
                <a:srgbClr val="000000"/>
              </a:solidFill>
              <a:latin typeface="Calibri"/>
            </a:endParaRPr>
          </a:p>
        </p:txBody>
      </p:sp>
      <p:sp>
        <p:nvSpPr>
          <p:cNvPr id="150" name="Slayt Numarası Yer Tutucus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C324A-9736-4B7D-886A-14712CE18737}" type="slidenum">
              <a:rPr b="0" lang="tr-T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13293-88D7-4FD9-9C13-7A7EECDA2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BC602-F76B-4B6F-8FAA-08DC12640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D4FA4-E7C2-44A7-BF44-B5321FDEB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B3A78-4E96-4569-91BF-552EB9242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860F21-3DC2-44CB-AD03-4D79F95D31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6D6C3-ACBF-4DAC-BF35-CDFCCA2E5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C2D03-512E-4AB6-BC5D-62CA2BCEE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54DF5-EACA-4FCA-8EF4-DFA4E2ED5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E9E86-EE9F-49EE-AFB0-F2E4A1D04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52D2F-38B9-4813-8DA8-AB64C3A12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6FCB3-F55B-4795-9DC7-80F19FC1E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4DB39-B9AF-4A0A-A5A5-A6FD2DDA0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7302C-9CB9-4C3B-8F45-8DC25C973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E68D4-A107-4775-90C7-9F5D46923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458F7-C964-41E4-A92A-2811B7587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7866A-3763-4387-AFE6-00A6DF3F1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075E00-9F43-4EBE-8B97-EED6722D77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59D3C-08FF-4902-B099-EBFC5D860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C0085-8A0C-452D-8479-1ED9E4E5D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3AE7A-E345-424D-94A0-ACE4009E4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10797-E0F7-4F60-A468-252DFFBD3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A75B8-92B3-464F-8130-BD208B206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6687E-F48B-4385-8783-132E69035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8F057-4D18-4DBD-855D-F3BD4AFE4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1DDF-C7B0-45DA-A912-36D82C0CBD2C}" type="slidenum">
              <a:rPr b="0" lang="tr-TR"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BBA7-533F-4220-9A07-2BB3E97BB325}" type="slidenum">
              <a:rPr b="0" lang="tr-TR" sz="1200" spc="-1" strike="noStrike">
                <a:solidFill>
                  <a:srgbClr val="ffffff"/>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3300"/>
                </a:solidFill>
                <a:latin typeface="Garamond"/>
              </a:rPr>
              <a:t>Kan ve vücut sıvısı dökülmesi hallinde uygulanacak temizlik</a:t>
            </a:r>
            <a:endParaRPr b="1" lang="en-US" sz="4000" spc="-1" strike="noStrike">
              <a:solidFill>
                <a:srgbClr val="b9efee"/>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ütün kan ve vücut sıvıları enfekte kabul edilmeli dökülme ve sıçramalarda temizlik güvenli bir şekilde yapılmalıdır.</a:t>
            </a:r>
            <a:endParaRPr b="0" lang="en-US" sz="3200" spc="-1" strike="noStrike">
              <a:solidFill>
                <a:srgbClr val="ffffff"/>
              </a:solidFill>
              <a:latin typeface="Garamond"/>
            </a:endParaRPr>
          </a:p>
          <a:p>
            <a:pPr marL="325800" indent="-3258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Mutlaka tek kullanımlık eldiven giyilmelidir.</a:t>
            </a:r>
            <a:endParaRPr b="0" lang="en-US" sz="3200" spc="-1" strike="noStrike">
              <a:solidFill>
                <a:srgbClr val="ffffff"/>
              </a:solidFill>
              <a:latin typeface="Garamond"/>
            </a:endParaRPr>
          </a:p>
          <a:p>
            <a:pPr marL="325800" indent="-3258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an ve vücut sıvılarının döküldüğü yerden hemen kağıt havlu ile kaba kiri alınır, atıklar kırmızı tıbbi atık poşetine  atılır.</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602240"/>
          </a:xfrm>
          <a:prstGeom prst="rect">
            <a:avLst/>
          </a:prstGeom>
          <a:noFill/>
          <a:ln w="0">
            <a:noFill/>
          </a:ln>
        </p:spPr>
        <p:txBody>
          <a:bodyPr anchor="t">
            <a:normAutofit fontScale="92000"/>
          </a:bodyPr>
          <a:p>
            <a:pPr marL="315360" indent="-31536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nfekte hasta odası, banyo ve wc sindeki tüm havlu kağıt, tuvalet kağıdı çöpe atılır, sıvı sabun lavaboya dökülür. </a:t>
            </a:r>
            <a:endParaRPr b="0" lang="en-US" sz="3200" spc="-1" strike="noStrike">
              <a:solidFill>
                <a:srgbClr val="ffffff"/>
              </a:solidFill>
              <a:latin typeface="Garamond"/>
            </a:endParaRPr>
          </a:p>
          <a:p>
            <a:pPr marL="315360" indent="-31536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Sıvı sabun kapları 1 litre suya 1 klorsept tabletle hazırlanmış solüsyonlu su içersinde 30 dakika bekletilerek dezenfekte edilir.</a:t>
            </a:r>
            <a:endParaRPr b="0" lang="en-US" sz="3200" spc="-1" strike="noStrike">
              <a:solidFill>
                <a:srgbClr val="ffffff"/>
              </a:solidFill>
              <a:latin typeface="Garamond"/>
            </a:endParaRPr>
          </a:p>
          <a:p>
            <a:pPr marL="315360" indent="-31536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Hasta odası tuvalet ve banyo temizleme talimatına göre temizledikten sonra tüm yüzeyleri 1 litre suya 1 klorsept tabletle hazırlanmış solüsyonla (duvar fayansları, wc, lavabo, vb. )dezenfekte edilir.</a:t>
            </a:r>
            <a:endParaRPr b="0" lang="en-US" sz="3200" spc="-1" strike="noStrike">
              <a:solidFill>
                <a:srgbClr val="ffffff"/>
              </a:solidFill>
              <a:latin typeface="Garamond"/>
            </a:endParaRPr>
          </a:p>
          <a:p>
            <a:pPr marL="3153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Tüm zeminler dezenfekte edilir.</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İlk temizlik bittiğinde yerlerde kaba kir, çöp ve su öbekleri kesinlikle olmaz.</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Hasta odasının temizliği sırasında çıkan çöp ve çamaşırlar odada bırakılmaz, atık depolarına atılır.</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nfekte odada kullanılan kovaların içersinde su bırakılmaz, malzemeler temiz ve düzenli bir şekilde bırakılı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80880" y="1066320"/>
            <a:ext cx="8229600" cy="4496040"/>
          </a:xfrm>
          <a:prstGeom prst="rect">
            <a:avLst/>
          </a:prstGeom>
          <a:noFill/>
          <a:ln w="0">
            <a:noFill/>
          </a:ln>
        </p:spPr>
        <p:txBody>
          <a:bodyPr anchor="t">
            <a:normAutofit fontScale="85000"/>
          </a:bodyPr>
          <a:p>
            <a:pPr marL="291600" indent="-2916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İkinci temizlikte de oda kirli olarak kabul edilir, koruyucu ekipmanlar ve turuncu kod uygulaması devam eder.</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nfekte hasta odasının duvar ve camları durulanarak klorsept tabletten arındırılır. </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Onun dışındaki odada bulunan tüm yüzeyler tekrar 1 litre suya  1 klorsept tabletle hazırlanmış solüsyonla temizden kirliye ilkesine göre silinir.</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anyoda bulunan duvar fayansları da durulanarak klorsept tabletten arındırılır.</a:t>
            </a:r>
            <a:endParaRPr b="0" lang="en-US" sz="3200" spc="-1" strike="noStrike">
              <a:solidFill>
                <a:srgbClr val="ffffff"/>
              </a:solidFill>
              <a:latin typeface="Garamond"/>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11430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Onun dışındaki wc, lavabo, havlu kağıt ve tuvalet kağıdı takacağı vb. yüzeylerde 1 litre suya  1 klorsept tabletle hazırlanmış solüsyonla dezenfekte edili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Üçüncü temizlikte oda temiz kabul edilir önlük giyilmesine ve turuncu kod uygulamasına gerek yoktur.</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Üçüncü temizlikte en kirli alan dediğimiz yerler hasta yatağı, kapı kolları, elektrik prizleri, hasta wc , lavabosu vb. yerler tekrar 1 litre suya  1 klorsept tabletle hazırlanmış solüsyonla dezenfekte edilir.</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Diğer yüzeyler duvar, cam, banyo duvar fayansları genel temizlik maddesiyle silinebilir</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Üçüncü temizlik bittikten sonra oda yerleştirilmelidir. Perdeler, çarşaf takımları, çöp poşetleri takılır tuvalet kağıdı, havlu kağıt ve sıvı sabun doldurulu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ullanılan turuncu eldivenler, vileda ucu taburcu sonrası enfekte oda temizliği bittikten sonra çöpe atılır.</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Turuncu bez kırmızı tıbbı atık çöp poşetine konur ve üzerine enfekte çamaşır etiketi yapıştırılarak kirli deposuna atlılır.</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ullanılan diğer temizlik malzemeleri dezenfekte edildikten sonra depoya kaldırılır.</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nfekte oda, temizlik kuralları hiçbir şekilde değiştirilmez, aynı koşullar geçerlidir.</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0000"/>
                </a:solidFill>
                <a:latin typeface="Garamond"/>
              </a:rPr>
              <a:t>Temizlik Solüsyonları Hazırlanırken Dikkat Edilmesi Gerekenler</a:t>
            </a:r>
            <a:endParaRPr b="1" lang="en-US" sz="4000" spc="-1" strike="noStrike">
              <a:solidFill>
                <a:srgbClr val="b9efee"/>
              </a:solidFill>
              <a:latin typeface="Garamond"/>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Solüsyon temizlenen bölgeye uygun oranda hazırlanmalıdır.</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Solüsyon işlemden hemen önce hazırlanmalı uzun süre bekletilmemelidir.</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Temizlik malzemeleri kova içinde bırakılmamalıdır.</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ullanılan solüsyon başka bir solüsyonla karıştırılmamalıdı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Yüzeyleri temizlediğimiz kirli dezenfektan solüsyonunu vileda kovasına döküp zemin temizliği kesinlikle yapılmamalıdır,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Farklı yüzey temizlikleri için her seferinde yeni dezenfektanlı solüsyon hazırlanır.</a:t>
            </a:r>
            <a:endParaRPr b="0" lang="en-US" sz="3200" spc="-1" strike="noStrike">
              <a:solidFill>
                <a:srgbClr val="ffffff"/>
              </a:solidFill>
              <a:latin typeface="Garamond"/>
            </a:endParaRPr>
          </a:p>
        </p:txBody>
      </p:sp>
      <p:sp>
        <p:nvSpPr>
          <p:cNvPr id="144" name="Dikdörtgen 1"/>
          <p:cNvSpPr/>
          <p:nvPr/>
        </p:nvSpPr>
        <p:spPr>
          <a:xfrm>
            <a:off x="3039840" y="6248520"/>
            <a:ext cx="25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563c1"/>
                </a:solidFill>
                <a:uFillTx/>
                <a:latin typeface="Comic Sans MS"/>
                <a:ea typeface="Calibri"/>
              </a:rPr>
              <a:t>www.egitimhane.com</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3300"/>
                </a:solidFill>
                <a:latin typeface="Garamond"/>
              </a:rPr>
              <a:t>ENFEKTE ODA TEMİZLİĞİ</a:t>
            </a:r>
            <a:endParaRPr b="1" lang="en-US" sz="4000" spc="-1" strike="noStrike">
              <a:solidFill>
                <a:srgbClr val="b9efee"/>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Oda temizliği için kullanılacak tüm temizlik malzemeleri odaya taşınır ve hasta taburcu olana kadar malzemeler kesinlikle dışarı çıkarılmaz. (Turuncu eldiven, kova, bez, vileda kovası, tıbbi atık çöp poşeti, klorsept tablet, lavoba ve wc si varsa gerekli olan bez, kova, eldiven ve kimyasallar hazırlanır)</a:t>
            </a:r>
            <a:endParaRPr b="0" lang="en-US" sz="3200" spc="-1" strike="noStrike">
              <a:solidFill>
                <a:srgbClr val="ffffff"/>
              </a:solidFill>
              <a:latin typeface="Garamond"/>
            </a:endParaRPr>
          </a:p>
          <a:p>
            <a:pPr marL="343080" indent="-3430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oruyucu önlük, eldiven ,maske, kirli</a:t>
            </a:r>
            <a:r>
              <a:rPr b="0" lang="tr-TR" sz="3200" spc="-1" strike="noStrike">
                <a:solidFill>
                  <a:srgbClr val="ffffff"/>
                </a:solidFill>
                <a:latin typeface="Arial"/>
              </a:rPr>
              <a:t>,</a:t>
            </a:r>
            <a:r>
              <a:rPr b="0" lang="tr-TR" sz="3200" spc="-1" strike="noStrike">
                <a:solidFill>
                  <a:srgbClr val="ffffff"/>
                </a:solidFill>
                <a:latin typeface="Garamond"/>
              </a:rPr>
              <a:t> temiz çamaşır sepeti hazırlanı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Mümkünse temiz önlük enfekte odanın dışında uygun bir yerde bulundurulur.</a:t>
            </a:r>
            <a:endParaRPr b="0" lang="en-US" sz="3200" spc="-1" strike="noStrike">
              <a:solidFill>
                <a:srgbClr val="ffffff"/>
              </a:solidFill>
              <a:latin typeface="Garamond"/>
            </a:endParaRPr>
          </a:p>
          <a:p>
            <a:pPr marL="325800" indent="-32580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İzolasyon odalarına girmeden önce personel ilk önce gömlek giyer, el dezenfektanını sıkar, sonra eldiven giyer. </a:t>
            </a:r>
            <a:endParaRPr b="0" lang="en-US" sz="3200" spc="-1" strike="noStrike">
              <a:solidFill>
                <a:srgbClr val="ffffff"/>
              </a:solidFill>
              <a:latin typeface="Garamond"/>
            </a:endParaRPr>
          </a:p>
          <a:p>
            <a:pPr marL="325800" indent="-32580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Öncelikle hastanın durumuna göre kirli yatak çarşaf takımları değiştirilir ve kırmızı tıbbi atık poşetinin içine konur ve üzerine enfekte çamaşır yazılı etiket yapıştırılır ve elimizdeki tek kullanımlık eldiven çöpe atılır. </a:t>
            </a:r>
            <a:endParaRPr b="0" lang="en-US" sz="3200" spc="-1" strike="noStrike">
              <a:solidFill>
                <a:srgbClr val="ffffff"/>
              </a:solidFill>
              <a:latin typeface="Garamond"/>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limize el dezenfektanı sıkılır ve tekrar temiz tek kullanımlık eldiven giyilir ve temiz çarşafları takımları serili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Tüm çöpler tıbbi atık çöp poşetine toplanır ve üzerine enfekte atık yazılı etiket yapıştırılı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Çöp kovalarına temiz tıbbı atık poşeti yerleştirilir.</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irli çöp ve çamaşırlar ağzı sıkıca bağlanmış bir şekilde oda kapısının iç kısmında bekletilir.</a:t>
            </a:r>
            <a:endParaRPr b="0" lang="en-US" sz="3200" spc="-1" strike="noStrike">
              <a:solidFill>
                <a:srgbClr val="ffffff"/>
              </a:solidFill>
              <a:latin typeface="Garamond"/>
            </a:endParaRPr>
          </a:p>
          <a:p>
            <a:pPr marL="332640" indent="-3326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Turuncu renk kodlaması uygulanır. 1 litre suya 1 klorsept tabletle hazırlanmış solüsyonla hastaya en uzak noktadan hastaya en yakına doğru gelinir. Temizden kirliye prensibine göre tüm yüzeyler temizlenir.</a:t>
            </a: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447920"/>
            <a:ext cx="8229600" cy="4495680"/>
          </a:xfrm>
          <a:prstGeom prst="rect">
            <a:avLst/>
          </a:prstGeom>
          <a:noFill/>
          <a:ln w="0">
            <a:noFill/>
          </a:ln>
        </p:spPr>
        <p:txBody>
          <a:bodyPr anchor="t">
            <a:normAutofit fontScale="94000"/>
          </a:bodyPr>
          <a:p>
            <a:pPr marL="322200" indent="-3222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n son hasta yatağı, elektrik prizleri ve kapı kolları silinir.</a:t>
            </a:r>
            <a:endParaRPr b="0" lang="en-US" sz="3200" spc="-1" strike="noStrike">
              <a:solidFill>
                <a:srgbClr val="ffffff"/>
              </a:solidFill>
              <a:latin typeface="Garamond"/>
            </a:endParaRPr>
          </a:p>
          <a:p>
            <a:pPr marL="322200" indent="-3222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Odanın içersinde hasta lavabosu ve wc si varsa hasta odası tuvalet ve banyo temizleme talimatına göre temizledikten sonra tüm yüzeyleri 1 litre suya 1 klorsept tabletle hazırlanmış solüsyonla dezenfekte edilmelidir.</a:t>
            </a:r>
            <a:endParaRPr b="0" lang="en-US" sz="3200" spc="-1" strike="noStrike">
              <a:solidFill>
                <a:srgbClr val="ffffff"/>
              </a:solidFill>
              <a:latin typeface="Garamond"/>
            </a:endParaRPr>
          </a:p>
          <a:p>
            <a:pPr marL="322200" indent="-3222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Odanın zemini dezenfektanlı solüsyonla paspaslanı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Dezenfektan kullanılan yüzeylere durulama ve kurulama yapılmaz. Durulanması gerekiyorsa 30 dk. yüzeye temas ettikten sonra durulanabilir.</a:t>
            </a:r>
            <a:endParaRPr b="0" lang="en-US" sz="3200" spc="-1" strike="noStrike">
              <a:solidFill>
                <a:srgbClr val="ffffff"/>
              </a:solidFill>
              <a:latin typeface="Garamond"/>
            </a:endParaRPr>
          </a:p>
          <a:p>
            <a:pPr marL="305280" indent="-3052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ovaların içersindeki solüsyonlar dökülür, tüm malzemeler temiz ve düzenli bir şekilde bırakılır,</a:t>
            </a:r>
            <a:endParaRPr b="0" lang="en-US" sz="3200" spc="-1" strike="noStrike">
              <a:solidFill>
                <a:srgbClr val="ffffff"/>
              </a:solidFill>
              <a:latin typeface="Garamond"/>
            </a:endParaRPr>
          </a:p>
          <a:p>
            <a:pPr marL="305280" indent="-3052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Odadan çıkarken ilk önce eldiven daha sonra önlük çıkartılır ve el antiseptiği sıkılır.</a:t>
            </a:r>
            <a:endParaRPr b="0" lang="en-US" sz="3200" spc="-1" strike="noStrike">
              <a:solidFill>
                <a:srgbClr val="ffffff"/>
              </a:solidFill>
              <a:latin typeface="Garamon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Rectangle 5"/>
          <p:cNvSpPr/>
          <p:nvPr/>
        </p:nvSpPr>
        <p:spPr>
          <a:xfrm>
            <a:off x="2133720" y="2133720"/>
            <a:ext cx="4572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600200"/>
            <a:ext cx="8229600" cy="4495680"/>
          </a:xfrm>
          <a:prstGeom prst="rect">
            <a:avLst/>
          </a:prstGeom>
          <a:noFill/>
          <a:ln w="0">
            <a:noFill/>
          </a:ln>
        </p:spPr>
        <p:txBody>
          <a:bodyPr anchor="t">
            <a:normAutofit fontScale="88000"/>
          </a:bodyPr>
          <a:p>
            <a:pPr marL="301680" indent="-3016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Dışarıya çıktığımızda temiz tıbbı atık poşeti, tek kullanımlık eldiven etiket ve koli bandı hazırlanır.</a:t>
            </a:r>
            <a:endParaRPr b="0" lang="en-US" sz="3200" spc="-1" strike="noStrike">
              <a:solidFill>
                <a:srgbClr val="ffffff"/>
              </a:solidFill>
              <a:latin typeface="Garamond"/>
            </a:endParaRPr>
          </a:p>
          <a:p>
            <a:pPr marL="301680" indent="-3016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Atık çöpler ve çamaşırlar odadan çıkartılırken öncelikle elimize tek kullanımlık eldiven giyilir, dışarıda temiz poşetin içine atıklar tekrar konur ve ağzı sıkıcı kapatılıp enfekte çöp ve çamaşır etiketi ve nereden gittiğini belirten bir etiket yapıştırılır ve hiç bekletilmeden ve asansör kullanmadan  depo alanlarına atılır. </a:t>
            </a:r>
            <a:endParaRPr b="0" lang="en-US" sz="3200" spc="-1" strike="noStrike">
              <a:solidFill>
                <a:srgbClr val="ffffff"/>
              </a:solidFill>
              <a:latin typeface="Garamond"/>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3300"/>
                </a:solidFill>
                <a:latin typeface="Garamond"/>
              </a:rPr>
              <a:t>TABURCU SONRASI ENFEKTE HASTA ODASI TEMİZLİĞİ</a:t>
            </a:r>
            <a:endParaRPr b="1" lang="en-US" sz="32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İlk temizlikte tüm tekstil ürünleri, çarşaf takımları, yorgan, yastık, perdeler de dahil olmak üzere kırmızı tıbbı atık çöp poşetine konur.</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İçerde bulunan temiz box gömleği, enfekte önlüğü de dahil olmak üzere sadece temizlik esnasında ihtiyacımız olan koruyucu önlük sayısı kadar ayrılır diğerleri tıbbı atık çöp poşetinin içersinde ağzı sıkıca bağlı bir şekilde üzerine etiket yazılarak çamaşır deposuna atılı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lif KIRBAŞ</dc:creator>
  <dc:description/>
  <dc:language>en-US</dc:language>
  <cp:lastModifiedBy>Progressive</cp:lastModifiedBy>
  <dcterms:modified xsi:type="dcterms:W3CDTF">2020-08-12T09:20:40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