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1E4-50F2-4B3C-BA4D-E5012A38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F4E-F2D0-4AA1-8CFC-3CCB0EB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35F-87CC-4FA2-AFAE-4300C710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A4B-378A-439E-82CE-49052D3F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E9A1-366B-4CBD-81AA-53C30C0A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032E-8E8B-4485-8424-8637068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7B7D-FD40-43AB-9685-55D420BC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48C8-330B-471D-AA3B-F5B2309A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0E41-D049-4315-951D-F69E1A9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0380-CA21-4DBD-93F3-38170A34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6D3-FBAE-4E1F-9769-FFCD0C3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B85-7090-4637-9857-DB4D4911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523-4485-4F69-8FD4-23642A1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6EA-1F92-4BA6-852A-02C185D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8DC-0BF8-44F2-A577-9C2E1EC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E051-3BEE-4567-8266-49BBC184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257-C40F-4F3F-BBDD-CBFAA9F5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E84-E5A2-415E-8BAD-482A966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1FF-01C4-48C8-8A7D-D08F34A0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384-018F-4199-BB2F-1D43A07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3ED-3A99-4625-89F8-C680A9A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06C-E72D-4D36-997D-6D25C59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738-A982-4081-A90C-1A6D691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A11-514C-4DBF-B359-26ADA23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A30-C0A8-419A-A5B8-CC7408E357EC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CE5C-0F56-4155-82C9-DEFB067DF216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KULLANILAN DEZENFEKTANLA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Garamond"/>
              </a:rPr>
              <a:t>Temizlikte Temel ilkel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temizden kirliye doğru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her bölüm için fark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hareketlilik başlamadan önce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yukarıdan aşağı doğru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solüsyonu temizlenen bölgenin risk durumuna göre hazır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enecek alana göre kova ve bez rengi belir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bitiminde malzemeler uygun şekilde yıkanıp kurutulu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ve ıslak bırak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ddeleri ve dezenfektanlar birbiri ile karıştır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valetler en son temiz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ru süpürme, silkeleme yap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/dezenfektan çözeltileri  kirlendiğinde,  her hasta odasında kullanımdan sonra, izolasyon odasında kullanımdan sonra (koruyucu izolasyon hariç) koruyucu izolasyon odasında kullanımdan önce değiştiril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SEPT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ullanımı: 5 litreye 1 tablet ya da enfekte hasta odasının temizliğinde 1 litreye 1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Bekleme süresi: 30 dak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ÇAMAŞIR SUYU: 1 LİTREDE 100 CC YANİ 900 CC SU+100 CC ÇAMAŞIR SUY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 tabletlerin kullanım bölgeleri: TRANSPLANTASYON SERVİSİ, YOĞUN BAKIMLAR, AMELİYATHANE,LABARATUVARLAR VE ENFEKSİYON HEMŞİRELİĞİ TARAFINDAN BİLDİRİLEN BULAŞICI HASTALIĞI OLAN HASTALAR (TBC,V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ENFEKTE ODA TEMİZLİĞİ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da temizliği için kullanılacak tüm temizlik malzemeleri odaya taşınır ve hasta taburcu olana kadar malzemeler odada ka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zolasyon odalarına girmeden önce personel ilk önce gömlek daha sonra eldiven giy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Personel ellerini yıkar ve eldiven giy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runcu renk kodlaması uygu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üm çöpler tıbbi atık çöp poşetine toplanır ve üzerine enfekte  yazılı etiket yapıştır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Çöp kovaları kirlenmişse dezenfekte edilir ve temiz poşet yerleştir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atak çarşafları toplanır ve yeşil tıbbi atık poşetine konur ve üzerine enfekte çamaşır yazılı etiket yapıştırıl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üm yüzeyler dezenfektanlı solüsyonla silin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emiz çamaşır seril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erler dezenfektanlı solüsyonla paspaslan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Dezenfektan kullanılan yüzeylere durulama ve kurulama yapılmaz. Dezenfektanın metal yüzeylerden durulanması gerekiyorsa 30 dk. yüzeye temas ettikten sonra durulanmalıd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Odadan çıkarken ilk önce eldiven daha sonra önlük çıkartılır ve el antiseptiği sıkılı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Atık çöpler ve çamaşırlar odadan çıkartılırken dışarıda temiz poşetin içine tekrar konur ve ağzı sıkıcı kapatılıp etiket yapıştırılır ve hiç bekletilmeden ve asansör kullanmadan  hastane dışındaki depo alanlarına atılı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Yatan hastada enfekte oda temizliği 24 saatte 3 defa yapılmakta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aburcu sonrası enfekte oda temizliği 6 saat içersinde 3 kez tüm yüzeyler silinerek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tekstil ürünleri, perdelerde dahil olmak üzere kırmızı tıbbı atık poşetine konur ve üzerine enfekte çamaşır yazılarak çamaşır deposuna atılır. Kirliye atılan çamaşırlarla ilgili tutanak tutulu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duvarlar camlar klorsept tabletle yıkanır, durulanmadan bırak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Tüm elektronik cihazlar klorsept tabletle yıkanmış iyice sıkılmış nemli bezle silinir.Kesinlikle suyun içersine atılm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Onun dışında kalan tıbbı malzemeler (derece, kulaktan ateş ölçer uçlar, ilaç şişeleri vb..) klorsept tabletle hazırlanmış solüsyonun içersinde 30 dk beklet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ilmediğiniz aletlerle ilgili yanlış bir şey yapmamak için hemşire hanımlara danışıl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daki tüm fayanslar ve zeminler klorsept tabletle yıkan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 ve tuvalette bulunan havlu kağıt, tuvalet kağıdı atılır, sıvı sabun dökülür ve dezenfekte ed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kinci temizlikte duvarlar ve camlar durulanarak silinir ve kurulanır. Onun dışındaki odada bulunan tüm eşyalar tekrar klor tabletle sili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Üçüncü temizlikte ise en çok kullanılan kapı kolları, elektrik prizleri vb. yerler tekrar klorsept tabletli su ile temizlenir diğer yüzeyler durulanır, kurulanır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n temizlikte yerleştirilmeli ve hasta kabul edilecek duruma getirilmelidir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temizlik malzemeleri dezenfekte edildikten sonra depoya teslim ed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Temizlik Solüsyonlarının Hazırlanması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temizlenen bölgeye uygun oranda hazırlan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işlemden hemen önce hazırlanmalı uzun süre bekletilme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bırak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solüsyon başka bir solüsyonla karıştır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Diğer bir odaya geçmeden önce toz kovalarının içersindeki sular dökülür, kova çalkalanır ve temizlik bezleri yık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5-09-30T09:23:1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