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D4F-552F-4F5B-857D-A7590202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2B31-4525-41B4-9DE7-3EDC4920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95B74A-9123-40B4-9781-7697BC46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D4CEE1-207F-4DF0-AE17-40E879FB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B55624-4918-4C1D-ACC0-4E65250B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7F3729-37A0-45EB-9426-998360DB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AC4CF9-0C4C-42E0-BDD8-003644F4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5E4292-7AD0-40EE-ADF3-37621329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AD3D7B-2017-48B3-BB7E-32AE07E8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F33CD0-5129-48A9-97C1-A9E6D8A1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21533A-424A-4206-A445-2A43DC9B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F1A-1AB6-41F5-9173-D528D0BE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108-43FF-4FC8-B7CB-6252B4B9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B6104-EAC4-454D-9208-0C8F9371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717EF-3AC2-406C-87D3-F9D4ECE3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3469A-9754-4832-9EAA-F048C718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EDF6D-EFF4-4BC9-9E52-0B0162E0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DB363-47FA-4AB4-80F2-769DF7DF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EEB9B-5104-47EB-9F28-EDB0D68C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BA1E5-248E-41BA-A369-2CA97051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11ED-5B74-4AA1-A28D-690797DA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B04BD-EFB5-4463-B8FC-3DC9E189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FF7BD-8E85-48FD-86B1-D50D8397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8CC83-CE68-46FD-A50C-903D45CB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908D4-B283-4F1C-A682-138D96DD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7798E-E082-4549-A8F6-458473CA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223D0-CE9A-44E0-A5FD-75CAFE39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49B00-C386-4E33-8881-1050EF36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69743-B83A-4065-B2A5-EE1A0110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F1DA3-7F9E-42EE-8465-B5269CE0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AA7B7-2070-47EF-91C8-BB386346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7D7-3FD4-429D-8788-B68181FA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F8209-483F-403C-B03D-1AE0D99B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6907D-9AD7-4727-8F3C-7CE3291A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B5C59-34A3-4FC8-BD87-67D023E2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536DC-11B8-4279-ADE6-61501404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F24DA-558B-4FFF-8037-8E1A38B9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05107-C35C-4208-B87D-E18E0D71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17F68-4258-40E1-BB5D-84AD5FD0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3A005C-804F-41A4-828D-5780A7BF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FA5F1E-7473-40DD-AB88-7E9ABA1A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A0D946-A3D7-4AAE-B14D-F660CC38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8EF-5092-461A-B422-5CF2B2C7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2B9BAF-EEB1-466B-906B-872D55B9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42C093-2E36-411C-B08F-E50FECDA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E7F7C8-EB7B-4FB5-A915-D5206C4D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F5423B-7ECE-49DC-8A0E-98D6C0FB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2E26CA-7A98-43CC-AA00-E7E7A37D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53FAA5-FD98-4886-90AD-F744697C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B16CA8-8504-4B30-B67D-31F41936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0BE60B-D181-40D6-8647-25692405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1BEBA8-06BB-45DD-B88E-CEF35CE8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A28D9-250F-4B21-8853-58F9BCBB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AD8-2D85-40B2-ACD5-D39D6210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110DA-5B46-4ADD-A62D-B7AEA9CC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6C8D2-96BA-4618-8D94-DA58E452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A5D10-39E3-491A-9C60-8284E3AA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9B7BE-E0E8-432F-B3C0-8FFCC11E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665D6-A814-4C10-858F-C898885B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8D087-89EA-4A07-A47F-17D5F197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89793-3CEE-435D-85A6-AE8EFD84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76949-8619-4C5C-A753-F630221C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0F0CE-7E71-4661-88E7-CEB2B0EC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6F1C3-5661-47B9-BCAA-421200E6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4FD-0DEF-4716-A1AE-A8AAC1E0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94FBB-1ED2-49AB-A8EB-60D94F3E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474E3-1224-4DD6-A1BB-23AF4BA3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0AF56-69B2-4BF4-BCBB-AB5C23DE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79F17-C17E-475C-9434-D8B820E6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15763-3E52-4E19-85B0-225C22D2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E3E82-59AC-4753-821C-5093D8DB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C9205-9D75-45C3-BB20-1DD43572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93B81-3165-404E-B5B6-9EF2FF6D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76761-5F3B-4CDF-8B9E-CACD542E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58095-0451-461E-BC26-62E4CA36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000-B196-4CFD-83E0-51E7FF65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5BB17-BFA7-4C6B-B0C5-3F0D0F33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049F3-4366-4C3B-B1DA-A1F55A49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5CC8B-AD83-4340-AE3A-E06DB279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5CE86-C371-49F8-B159-9335772D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07B40-BD8A-4420-A2A4-635FC177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7A1DF-D377-4B95-A9E6-7D8522DD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19E52-9767-4358-AA87-522A383C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CCB6B-4966-40AC-AD18-8368AFEB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71A25-D54D-4D7A-8947-0614C991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5078F-BB31-4EA9-8DAD-DA37A9DF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CE30-F5A6-4696-85BA-617D323C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BB1C0-E84E-4531-A15C-B479530C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9337A-B5AF-410E-8415-F596D681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ED042-0A4C-44FA-8B5C-B3435588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793D0-B2E3-47B1-80B0-76C4C377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F1C56-0C5B-4B99-816B-217860E0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A316D5-A309-4A3F-B1C5-A9182178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2E59A1-AFF4-402E-AADC-D95662F0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0F0929-87E8-4DE5-BF6D-FD6E2C5B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01A6A0-8DA3-4EEC-88DE-890D654E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154748-AA87-41B9-9178-45BC3663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9842-53E7-4ED2-9C6C-19C53F50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6F5924-3982-4960-9933-EA928CCC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7B297A-4960-4D8B-B5FA-DB4A3445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3FE514-BABE-46AE-B055-96B99B90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EB8D07-D338-443A-A853-427E7E6B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BA1194-340C-4F3C-B982-831F9019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D7719B-20F2-432B-ABB4-ABDBB09A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C10D0E-83DC-4FCC-B2E3-F4FA4179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B8E86A-741A-44C6-B45A-A1028335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D28A24-59E9-4474-A96C-6D45669B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7B584E-331B-453D-B334-EE24D514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Yuvarlatılmış Çapraz Köşeli Dikdörtgen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6 Yuvarlatılmış Çapraz Köşeli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5D58-904F-45D8-990C-DAA98C2C0B2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Yuvarlatılmış Çapraz Köşeli Dikdörtgen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7 Yuvarlatılmış Çapraz Köşeli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487C-5D92-40DF-B494-D4D0D7A62DC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6 Yuvarlatılmış Çapraz Köşeli Dikdörtgen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6 Yuvarlatılmış Çapraz Köşeli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7 Dikdörtgen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EC57-3C40-4E00-88D0-049C4EC8C5A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Dikdörtgen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70C7-4581-4EB5-AF8E-10EDA77E3E4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6 Yuvarlatılmış Çapraz Köşeli Dikdörtgen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6 Yuvarlatılmış Çapraz Köşeli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7 Dikdörtgen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68CC-2995-488C-BE54-BE9D5FAD3587}" type="slidenum">
              <a:rPr b="0" lang="tr-T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6 Yuvarlatılmış Çapraz Köşeli Dikdörtgen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6 Yuvarlatılmış Çapraz Köşeli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7 Dikdörtgen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8 Dikdörtgen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1983-29A2-4D32-8463-AF49EE984B4B}" type="slidenum">
              <a:rPr b="0" lang="tr-T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6 Yuvarlatılmış Çapraz Köşeli Dikdörtgen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6 Yuvarlatılmış Çapraz Köşeli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7 Dikdörtgen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BB03-2E82-4C3C-80E8-FA8B1FB98180}" type="slidenum">
              <a:rPr b="0" lang="tr-T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7 Dikdörtgen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83DD-BAB2-4D00-AE05-8FCAF2558D46}" type="slidenum">
              <a:rPr b="0" lang="tr-T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82DE-135A-44F2-BBDE-D8C2CF4C4210}" type="slidenum">
              <a:rPr b="0" lang="tr-T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1 Başlık" descr=""/>
          <p:cNvPicPr/>
          <p:nvPr/>
        </p:nvPicPr>
        <p:blipFill>
          <a:blip r:embed="rId2"/>
          <a:stretch/>
        </p:blipFill>
        <p:spPr>
          <a:xfrm>
            <a:off x="457200" y="378000"/>
            <a:ext cx="8613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1 Başlık" descr=""/>
          <p:cNvPicPr/>
          <p:nvPr/>
        </p:nvPicPr>
        <p:blipFill>
          <a:blip r:embed="rId2"/>
          <a:stretch/>
        </p:blipFill>
        <p:spPr>
          <a:xfrm>
            <a:off x="401760" y="249120"/>
            <a:ext cx="8381880" cy="1158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Sıvı sabun kapları boşaldığında kaplar yerinden çıkarılır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Kapların içi ovularak eski sabundan arındırılır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Sıvı sabun kabı iyice durulanır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1 Başlık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Rockwell"/>
              </a:rPr>
              <a:t>Hazırlanan dezenfektanlı solüsyon içerisinde (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tr-TR" sz="3600" spc="-1" strike="noStrike">
                <a:solidFill>
                  <a:srgbClr val="ffffff"/>
                </a:solidFill>
                <a:latin typeface="Rockwell"/>
              </a:rPr>
              <a:t> li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tr-TR" sz="3600" spc="-1" strike="noStrike">
                <a:solidFill>
                  <a:srgbClr val="ffffff"/>
                </a:solidFill>
                <a:latin typeface="Rockwell"/>
              </a:rPr>
              <a:t>re suya 1  litre  çamaşır suyu) veya 5 litre suya 1 adet klorsept tablet) sabun kapları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tr-TR" sz="3600" spc="-1" strike="noStrike">
                <a:solidFill>
                  <a:srgbClr val="ffffff"/>
                </a:solidFill>
                <a:latin typeface="Rockwell"/>
              </a:rPr>
              <a:t>0 dakika bekletilerek dezenfekte edilir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1 Başlık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zenfekte edilen kaplar durulanır ve kurulanı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urulanan sıvı sabun kapları içerisine sıvı sabun doldurulur ve kullanıma hazır hale getirili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üm hastane içerisinde aynı uygulama kaplar boşaldıkça tekrarlanı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3:05:28Z</dcterms:created>
  <dc:creator>hulya.acikgoz</dc:creator>
  <dc:description/>
  <dc:language>en-US</dc:language>
  <cp:lastModifiedBy>ebru.ertuna</cp:lastModifiedBy>
  <dcterms:modified xsi:type="dcterms:W3CDTF">2012-02-06T12:57:14Z</dcterms:modified>
  <cp:revision>4</cp:revision>
  <dc:subject/>
  <dc:title>SIVI SABUN KAPLARININ TEMİZLİĞİ</dc:title>
</cp:coreProperties>
</file>