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335-89D1-4C97-A29F-678F6426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0E7-F426-48A9-9521-1E8AABB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CB0-4CBF-4B1C-8F0D-CD93089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498-063C-4CB4-991D-2798A351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523-C65B-4422-A5AB-472ED10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BDA-823E-4790-AF78-A89D29A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0D6-9ABF-443C-8AEF-B7C978CA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546-B329-45EA-8C48-7C9EEC3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DB9-B8BC-4322-8D56-A94206C1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16D-C823-41BE-BBD5-6E6A886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369-F748-49A9-9006-33CF96A9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69D-035E-440A-9EA2-9E905DE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D7DA-042A-4DFD-8CFB-FBD1CAA93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SPAS  ATMA EĞİTİM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5" descr="MMj03566130000[1]"/>
          <p:cNvPicPr/>
          <p:nvPr/>
        </p:nvPicPr>
        <p:blipFill>
          <a:blip r:embed="rId2"/>
          <a:stretch/>
        </p:blipFill>
        <p:spPr>
          <a:xfrm>
            <a:off x="3352680" y="3809880"/>
            <a:ext cx="165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atmada kullanılacak malzemeler eksiksiz olarak hazır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lzeme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ift Kovalı döner pres arab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slak paspas aparatı ve paspas b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 mob aparatı ve b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095880" y="4952880"/>
            <a:ext cx="1500480" cy="157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057400" y="5029200"/>
            <a:ext cx="1738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u ve temizlik solüsyo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Faraş ve fırç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Çöp poşe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Uyarıcı lev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6192720" y="33354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MCj03713400000[1]"/>
          <p:cNvPicPr/>
          <p:nvPr/>
        </p:nvPicPr>
        <p:blipFill>
          <a:blip r:embed="rId4"/>
          <a:stretch/>
        </p:blipFill>
        <p:spPr>
          <a:xfrm>
            <a:off x="4267080" y="1600200"/>
            <a:ext cx="18129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mizlik personeli işe başlamadan önce sarı renkli eldiveni giy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ndalye, çöp kovası vb. gibi temizliği engelleyecek eşyalar kaldır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işlemine geçmeden önce kuru mob ile yüzeydeki kaba kirler toplanır ve bir köşede biriktirilir, faraş ve fırça yardımıyla çöp poşetine at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 süpürme yapılm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52" name="8 Düz Bağlayıcı"/>
          <p:cNvSpPr/>
          <p:nvPr/>
        </p:nvSpPr>
        <p:spPr>
          <a:xfrm>
            <a:off x="5715000" y="442908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8 Düz Bağlayıcı"/>
          <p:cNvSpPr/>
          <p:nvPr/>
        </p:nvSpPr>
        <p:spPr>
          <a:xfrm>
            <a:off x="5867280" y="458136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8 Düz Bağlayıcı"/>
          <p:cNvSpPr/>
          <p:nvPr/>
        </p:nvSpPr>
        <p:spPr>
          <a:xfrm>
            <a:off x="5715000" y="442908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0 Düz Bağlayıcı"/>
          <p:cNvSpPr/>
          <p:nvPr/>
        </p:nvSpPr>
        <p:spPr>
          <a:xfrm flipH="1">
            <a:off x="5715000" y="4357800"/>
            <a:ext cx="1571760" cy="2500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429000" y="5562720"/>
            <a:ext cx="12384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ncellikle çift kovalı ve presli paspas setinin temiz su kovası (mavi) 2/3 oranında temiz su ile doldurulur ve ½ ped bardak genel temizlik maddesi ko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rli kovaya (kırmızı) 1/3 oranında temiz su ko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Cilalı yüzeylerde genel temizlik maddesi yerine cila bakım maddesi kullanılır.( 1 çay bardağı cila bakım maddesi kon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bezi mavi kova içerisindeki su ile ıslatılır preste sıkılır. Presimiz kırmızı kovanın üzerine getir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zey “S” hareketi çizilerek temizlenir.Paspasın bir yüzü kirlendiğinde diğer yüzü çevrilerek paspaslamaya devam ed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uvar kenarları ve süpürgelikleri paralel hatlar çizilerek temizle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rlenen paspas bezi kırmızı kovada yıkanarak pres ile sıkılır daha sonra mavi kovada yıkanarak tekrar sıkıl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İşleme devam ederken mavi kovadaki su giderek azalacak, kırmızı kovadaki su ise artacak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vi ve kırmızı kovadaki sular eşitlendiğinde sular boşaltılmalı; kovalar su ile çalkalanmalı ve yeniden temiz su ile doldurulmalıdı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slak paspaslama işlemi bittikten sonra zemin temiz kuru mob ile kurulanmalıdı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lama işlemi bittikten sonra kovalar içersindeki sular boşaltılır, kovalar yıkanarak duru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lan paspas bezi ve moblar kirli poşetine konularak yıkanması için kirli çamaşır deposuna götürülü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lanılan malzemeler temiz ve düzenli bir şekilde temizlik deposuna kaldır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4-03-11T13:01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