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0C5-FA3E-466A-82C2-F4E588FA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900-1ED9-4132-BA82-816884D0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A5B-2C7B-4CD3-8373-AD8C1124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09C-5877-4D99-9DFB-43AE9393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FB31-E232-471A-831D-225D8A4F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46FA-6C81-4B0F-A887-E977D85F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F8F9-83C2-45F5-BC99-22CC611D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FC64-34E9-428F-9F36-66F7475F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1C39-BAFE-4778-80A7-EE480879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4980-9665-4B51-909E-D363FC69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22D7-4789-4A3B-9813-490B935B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ADD-FDDC-426A-8EEB-ADA563C5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C110-BBC3-460D-B568-2F927237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CEB8-6B53-48A6-B9BC-37EFA4AE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080C-9FF1-42D8-9A5D-8969BAF6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2F62-19E7-4EE0-A317-336A8A95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83E7-F7E2-4B76-8C78-A037A4F2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FFA-AEB2-42E5-85E9-87AE9D18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8D0-7D99-44B2-8A78-7A485541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D9E-8882-4810-82EC-83E22C22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D01-D7FA-4965-B755-39DC966C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F8C-C816-41AB-8380-92351988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CC7-BE92-4DF2-BB23-1B190C01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89D-5C2F-45B6-875E-B9FBC0ED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FAE0-001F-4854-92D1-4413B3A22903}" type="slidenum">
              <a:rPr b="0" lang="tr-T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5231-189A-431E-9BF9-BC8A0116FAC3}" type="slidenum">
              <a:rPr b="0" lang="tr-T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sim 15" descr=""/>
          <p:cNvPicPr/>
          <p:nvPr/>
        </p:nvPicPr>
        <p:blipFill>
          <a:blip r:embed="rId1"/>
          <a:stretch/>
        </p:blipFill>
        <p:spPr>
          <a:xfrm>
            <a:off x="4495680" y="914400"/>
            <a:ext cx="1251000" cy="1246320"/>
          </a:xfrm>
          <a:prstGeom prst="rect">
            <a:avLst/>
          </a:prstGeom>
          <a:ln w="0">
            <a:noFill/>
          </a:ln>
        </p:spPr>
      </p:pic>
      <p:pic>
        <p:nvPicPr>
          <p:cNvPr id="152" name="5 Resim" descr="Yeni Resim (5).bmp"/>
          <p:cNvPicPr/>
          <p:nvPr/>
        </p:nvPicPr>
        <p:blipFill>
          <a:blip r:embed="rId2"/>
          <a:stretch/>
        </p:blipFill>
        <p:spPr>
          <a:xfrm>
            <a:off x="6324480" y="838080"/>
            <a:ext cx="1154160" cy="1257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8"/>
          <p:cNvSpPr/>
          <p:nvPr/>
        </p:nvSpPr>
        <p:spPr>
          <a:xfrm>
            <a:off x="1600200" y="304920"/>
            <a:ext cx="2556000" cy="2209680"/>
          </a:xfrm>
          <a:prstGeom prst="roundRect">
            <a:avLst>
              <a:gd name="adj" fmla="val 16667"/>
            </a:avLst>
          </a:prstGeom>
          <a:solidFill>
            <a:srgbClr val="365f91"/>
          </a:soli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2286000" y="1219320"/>
            <a:ext cx="1141560" cy="261720"/>
          </a:xfrm>
          <a:prstGeom prst="rect">
            <a:avLst/>
          </a:prstGeom>
          <a:solidFill>
            <a:srgbClr val="365f91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MAVİ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609480" y="2743200"/>
            <a:ext cx="7848720" cy="25909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 Narrow"/>
              </a:rPr>
              <a:t>MAVİ BEZ-MAVİ KOVA-MAVİ ELDİVEN: Masa, etajer, yatak, cam önü, cam ve kapı kolları, çalışma ofisi vb. temiz alanlarda kullanılı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066680" y="457200"/>
            <a:ext cx="3011760" cy="2133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Resim 1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1257480" cy="1251000"/>
          </a:xfrm>
          <a:prstGeom prst="rect">
            <a:avLst/>
          </a:prstGeom>
          <a:ln w="0">
            <a:noFill/>
          </a:ln>
        </p:spPr>
      </p:pic>
      <p:pic>
        <p:nvPicPr>
          <p:cNvPr id="158" name="7 Resim" descr="Yeni Resim (6).bmp"/>
          <p:cNvPicPr/>
          <p:nvPr/>
        </p:nvPicPr>
        <p:blipFill>
          <a:blip r:embed="rId2"/>
          <a:stretch/>
        </p:blipFill>
        <p:spPr>
          <a:xfrm>
            <a:off x="5791320" y="1066680"/>
            <a:ext cx="1154160" cy="1187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447920" y="1371600"/>
            <a:ext cx="22096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ARI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62120" y="2743200"/>
            <a:ext cx="7696080" cy="2514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SARI BEZ-SARI KOVA-SARI ELDİVEN: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 Narrow"/>
              </a:rPr>
              <a:t>Tuvalet ve banyolardaki </a:t>
            </a: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; duş teknesi, küvet, fayans,  ayna, bataryalar, kağıt dağıtıcıları, kapı kolları ve elektrik armatürleri  temizliğinde kullanılı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1447920" y="609480"/>
            <a:ext cx="2630520" cy="1944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Resim 24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1238040" cy="1224000"/>
          </a:xfrm>
          <a:prstGeom prst="rect">
            <a:avLst/>
          </a:prstGeom>
          <a:ln w="0">
            <a:noFill/>
          </a:ln>
        </p:spPr>
      </p:pic>
      <p:pic>
        <p:nvPicPr>
          <p:cNvPr id="163" name="9 Resim" descr="Yeni Resim (4).bmp"/>
          <p:cNvPicPr/>
          <p:nvPr/>
        </p:nvPicPr>
        <p:blipFill>
          <a:blip r:embed="rId2"/>
          <a:stretch/>
        </p:blipFill>
        <p:spPr>
          <a:xfrm>
            <a:off x="5943600" y="1295280"/>
            <a:ext cx="1133640" cy="125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1600200" y="1447920"/>
            <a:ext cx="2362320" cy="380880"/>
          </a:xfrm>
          <a:prstGeom prst="rect">
            <a:avLst/>
          </a:prstGeom>
          <a:solidFill>
            <a:srgbClr val="c00000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KIRMIZI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57200" y="3048120"/>
            <a:ext cx="7696080" cy="2514600"/>
          </a:xfrm>
          <a:prstGeom prst="rect">
            <a:avLst/>
          </a:prstGeom>
          <a:solidFill>
            <a:srgbClr val="c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KIRMIZI BEZ-KIRMIZI KOVA-KIRMIZI ELDİVEN: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 Narrow"/>
              </a:rPr>
              <a:t>Tuvalet  ve Banyolardaki</a:t>
            </a: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;  klozet, pisuar  ve sifon tankı temizliğinde  kullanılı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4"/>
          <p:cNvSpPr/>
          <p:nvPr/>
        </p:nvSpPr>
        <p:spPr>
          <a:xfrm>
            <a:off x="990720" y="457200"/>
            <a:ext cx="3011400" cy="2173320"/>
          </a:xfrm>
          <a:prstGeom prst="roundRect">
            <a:avLst>
              <a:gd name="adj" fmla="val 16667"/>
            </a:avLst>
          </a:prstGeom>
          <a:solidFill>
            <a:srgbClr val="e36c0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Yeni Resim (1)"/>
          <p:cNvPicPr/>
          <p:nvPr/>
        </p:nvPicPr>
        <p:blipFill>
          <a:blip r:embed="rId1"/>
          <a:stretch/>
        </p:blipFill>
        <p:spPr>
          <a:xfrm>
            <a:off x="4267080" y="1219320"/>
            <a:ext cx="1238400" cy="148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019920" y="1371600"/>
            <a:ext cx="1152360" cy="125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066680" y="1447920"/>
            <a:ext cx="2895840" cy="533160"/>
          </a:xfrm>
          <a:prstGeom prst="rect">
            <a:avLst/>
          </a:prstGeom>
          <a:solidFill>
            <a:srgbClr val="e36c0a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TURUNCU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990720" y="3200400"/>
            <a:ext cx="6377040" cy="2438280"/>
          </a:xfrm>
          <a:prstGeom prst="rect">
            <a:avLst/>
          </a:prstGeom>
          <a:solidFill>
            <a:srgbClr val="e36c0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TURUNCU BEZ-TURUNCU KOVA-TURUNCU ELDİVEN: Hastanedeki tüm enfekte alanların temizliğinde kullanılı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Poşet Eldiven: Hasta teması vb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hastadan personele bulaşın söz konusu olmadığı durumlarda ve yere dökülen hasta çıkartılarının havlu kağıt ile temizliğinde kullanılı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Dalhausen eldiven: Acinetobacterli, VRE'li hastalarda, enfeksiyon bölümünün izole ettirdiği hastalarda, gaita temizliğinde kullanılabili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bru.ertuna</cp:lastModifiedBy>
  <dcterms:modified xsi:type="dcterms:W3CDTF">2016-02-04T11:19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