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1951-00A2-4625-A637-E7DA34A24696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5266-C4E7-4D32-B0D6-7FAB531F8B91}" type="slidenum">
              <a:rPr b="0" lang="tr-T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0442-E2F3-41E0-9049-61805ACF6569}" type="slidenum">
              <a:rPr b="0" lang="tr-T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A6BE-F846-4A34-BCFA-60BF136FFF29}" type="slidenum">
              <a:rPr b="0" lang="tr-T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1EF-4E62-4AEA-993C-A14EA602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F2E-D7FF-47C1-8F02-E5410932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CC35-53B5-46BF-B425-D6EF9392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E763-C0DE-48CF-9FAB-214F236D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8F91-3B7A-4E86-9765-F4AC9312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DFA7-37F2-4650-A5CA-C52964A4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CC61-CE35-4909-B37F-E49DB7FD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0AB5-5C75-4070-99B5-45BE0533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6F2A-9826-410F-BA97-146B0C29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2DEC-C8BA-4BF0-8B8D-492CB2DA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29B4-7376-40E8-A274-17234A71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91B-1696-4F6F-8A8C-21B4D1DD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B8AE-FDBA-4435-A270-4555B04B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2B56-FF00-4ADA-BC86-AF555A56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AB4A-BCE4-40A1-ABE6-A81870EB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DA16-9439-476D-9C9B-309A5F34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73A9-D054-4FA4-9B05-9A17C94E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BAA-A101-4682-B720-38D80652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535-A229-4A85-AA34-ADAC5BCF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19B-FD83-448F-97FD-4B6C6E3D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020-A0C8-4149-A2E3-418E045B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878-F5F5-4BEF-89DA-5065A29F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9CF6-BA93-492B-9E94-04F7E2D3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A6D-27C2-4C4E-810F-9BDE489E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E944-8795-4DFE-91DE-2ACDA53C6083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1655-1985-4EA6-BB32-00FF272409DC}" type="slidenum">
              <a:rPr b="0" lang="tr-T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b9efee"/>
                </a:solidFill>
                <a:latin typeface="Garamond"/>
              </a:rPr>
              <a:t>EL HİJYENİ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Picture 3" descr="pwnzpfim[1]"/>
          <p:cNvPicPr/>
          <p:nvPr/>
        </p:nvPicPr>
        <p:blipFill>
          <a:blip r:embed="rId1"/>
          <a:stretch/>
        </p:blipFill>
        <p:spPr>
          <a:xfrm>
            <a:off x="1547640" y="1766880"/>
            <a:ext cx="61200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6e6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b9efee"/>
                </a:solidFill>
                <a:latin typeface="Arial"/>
              </a:rPr>
              <a:t>EL HİJYENİ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Hastalık yapan mikroorganizmalar kişiden kişiye </a:t>
            </a:r>
            <a:r>
              <a:rPr b="0" lang="tr-TR" sz="3200" spc="-1" strike="noStrike" u="sng">
                <a:solidFill>
                  <a:srgbClr val="ff0033"/>
                </a:solidFill>
                <a:uFillTx/>
                <a:latin typeface="Arial"/>
              </a:rPr>
              <a:t>en çok eller yolu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ile bulaşmaktadı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Hijyenik el yıkamanın amacı, eller üzerinde bulunan geçici bakterilerin tamamını, kalıcı bakterilerin ise bir kısmını ellerden uzaklaştırmaktır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Object 4" descr=""/>
          <p:cNvPicPr/>
          <p:nvPr/>
        </p:nvPicPr>
        <p:blipFill>
          <a:blip r:embed="rId1"/>
          <a:stretch/>
        </p:blipFill>
        <p:spPr>
          <a:xfrm>
            <a:off x="6148440" y="152280"/>
            <a:ext cx="2386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6e6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b9efee"/>
                </a:solidFill>
                <a:latin typeface="Garamond"/>
              </a:rPr>
              <a:t>EL HİJYENİ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n iyi el yıkama işlemi bol suda ve sabunla, bilekleri de içine alacak şekilde avuç içi, parmak araları, parmak uçları ve özellikle tırnak dipleri iyice temizlenecek şekilde olmalıdı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ıkama ve durulama sonrasında nemli kalmaması için temiz bir havlu ile kurulanmalıdı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b9efee"/>
                </a:solidFill>
                <a:latin typeface="Garamond"/>
              </a:rPr>
              <a:t>El yıkama prosedürü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Ilık su ile eller önce ıslatılı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3-5 ml antiseptik içeren veya içermeyen sıvı sabun alını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Her iki elin tüm yüzeyleri ve parmaklar yaklaşık 30 saniye ovulu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Ilık su ile eller durulanı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Kağıt  havlu ile kurulanı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Kullanılan havlu ile musluk kapatılı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Kağıt havlu el değmeden pedallı çöp kutusuna atılı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b9efee"/>
                </a:solidFill>
                <a:latin typeface="Garamond"/>
              </a:rPr>
              <a:t>Avrupa EN 1500 El Yıkama Prosedürü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1425600" y="1905120"/>
            <a:ext cx="7230960" cy="4697280"/>
            <a:chOff x="1425600" y="1905120"/>
            <a:chExt cx="7230960" cy="4697280"/>
          </a:xfrm>
        </p:grpSpPr>
        <p:pic>
          <p:nvPicPr>
            <p:cNvPr id="132" name="Picture 4" descr="EL-5"/>
            <p:cNvPicPr/>
            <p:nvPr/>
          </p:nvPicPr>
          <p:blipFill>
            <a:blip r:embed="rId1"/>
            <a:stretch/>
          </p:blipFill>
          <p:spPr>
            <a:xfrm>
              <a:off x="1425600" y="1905120"/>
              <a:ext cx="7230960" cy="469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5"/>
            <p:cNvSpPr/>
            <p:nvPr/>
          </p:nvSpPr>
          <p:spPr>
            <a:xfrm>
              <a:off x="1555560" y="6093000"/>
              <a:ext cx="1924560" cy="4316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Tahoma"/>
                </a:rPr>
                <a:t>5 saniye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4057560" y="6093000"/>
              <a:ext cx="1924920" cy="4316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Tahoma"/>
                </a:rPr>
                <a:t>5 saniye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1491840" y="3860640"/>
              <a:ext cx="1924920" cy="432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Tahoma"/>
                </a:rPr>
                <a:t>5 saniye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6496560" y="3789360"/>
              <a:ext cx="1924560" cy="4316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Tahoma"/>
                </a:rPr>
                <a:t>5 saniye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4057560" y="3860640"/>
              <a:ext cx="1924920" cy="432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Tahoma"/>
                </a:rPr>
                <a:t>5 saniye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6431400" y="6165720"/>
              <a:ext cx="1924920" cy="432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Tahoma"/>
                </a:rPr>
                <a:t>5 saniye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b9efee"/>
                </a:solidFill>
                <a:latin typeface="Garamond"/>
              </a:rPr>
              <a:t>El yıkama ve El Antiseptiklerini Kullanma Endikasyonları</a:t>
            </a:r>
            <a:r>
              <a:rPr b="1" lang="tr-TR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Eller eğer gözle görülür şekilde kirlenmişse su ve sabun ile yıkanmalıdı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Eğer eller gözle görülen bir şekilde kirlenmemiş ise alkol bazlı el antiseptikleri kullanılabili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Eldiven el hijyeni yerini alma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Eldiven giyilse bile çıkardıktan sonra el hijyeni sağlanmalıdı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Eldiven Kullanımında Dikkat Edilmesi </a:t>
            </a:r>
            <a:br>
              <a:rPr sz="2800"/>
            </a:b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   Gereken Duruml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O işlem için 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mutlaka gerekli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 i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Gerekli ise 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sadece o işlem iç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İşlemden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 hemen önce 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giyilmel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İşlem 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bittiği anda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 çıkarılmal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Aynı eldiven ile 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başka hiçbir yere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 dokunulmamal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Aynı hasta üzerinde farklı bölgelere işlem yapılırken ya da bir hastadan diğer hastaya geçilirk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15840" y="201780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tr-TR" sz="4400" spc="-1" strike="noStrike">
                <a:solidFill>
                  <a:srgbClr val="ffffff"/>
                </a:solidFill>
                <a:latin typeface="Marigold"/>
              </a:rPr>
              <a:t>Ellerinizi yıkayarak kendinizi ve hastaları İnfeksiyonlardan koruyunuz. Eliniz temiz, içiniz rahat olsun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Marigold"/>
              </a:rPr>
              <a:t>	</a:t>
            </a:r>
            <a:r>
              <a:rPr b="1" lang="tr-TR" sz="4400" spc="-1" strike="noStrike">
                <a:solidFill>
                  <a:srgbClr val="ffffff"/>
                </a:solidFill>
                <a:latin typeface="Marigold"/>
              </a:rPr>
              <a:t>	</a:t>
            </a:r>
            <a:r>
              <a:rPr b="1" lang="tr-TR" sz="4400" spc="-1" strike="noStrike">
                <a:solidFill>
                  <a:srgbClr val="ffffff"/>
                </a:solidFill>
                <a:latin typeface="Marigold"/>
              </a:rPr>
              <a:t>	</a:t>
            </a:r>
            <a:r>
              <a:rPr b="1" lang="tr-TR" sz="4400" spc="-1" strike="noStrike">
                <a:solidFill>
                  <a:srgbClr val="ffffff"/>
                </a:solidFill>
                <a:latin typeface="Marigold"/>
              </a:rPr>
              <a:t>	</a:t>
            </a:r>
            <a:r>
              <a:rPr b="1" lang="tr-TR" sz="4400" spc="-1" strike="noStrike">
                <a:solidFill>
                  <a:srgbClr val="ffffff"/>
                </a:solidFill>
                <a:latin typeface="Marigol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Dikdörtgen 1"/>
          <p:cNvSpPr/>
          <p:nvPr/>
        </p:nvSpPr>
        <p:spPr>
          <a:xfrm>
            <a:off x="3268440" y="640080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563c1"/>
                </a:solidFill>
                <a:uFillTx/>
                <a:latin typeface="Comic Sans MS"/>
                <a:ea typeface="Calibri"/>
              </a:rPr>
              <a:t>www.egitimhane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gressive</cp:lastModifiedBy>
  <dcterms:modified xsi:type="dcterms:W3CDTF">2020-08-12T09:20:1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