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CB29-6DE6-4D12-8DA7-4F5AFD06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547C-5F54-4BC0-93F9-73A8EAB4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ECAB-E112-4EE8-8732-A6CE7944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0048-22EA-4D49-B902-3BABB306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D215-86AA-4550-A1F2-0D1782D5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4A6E-DF23-45FD-A25B-F0012169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0417-E780-4C0F-BF09-844C8585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9EF9-8B42-49A0-A959-69E265F0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D56E-6CBE-4C56-9F9B-84DDE99E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99B8-992A-444F-A712-90DB70D3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07DF-AD4A-42D3-954E-8CED4633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6DC0-5E90-4BE0-BD54-0971836E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98D3-21B9-4296-A23E-201BAF54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25C8-44A2-4D57-AEDA-BF314BB8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8F7D-2136-4C19-B08F-E90A684A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D25B-9B3F-490B-90E1-8E3A867C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EC2F-958E-49D1-94D6-C1A586EA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3524-E32D-4B42-8134-012916CC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D352-BE45-44CD-B3F5-C250451B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CB64-39FC-42B5-B47C-B1C99655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95C0-C344-4D66-AD69-BFCDDE3B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08C7-3EEE-4E11-AADE-22A60F98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BCA6-E203-44EE-8AC5-EE92A6EB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BAA6-5379-40C4-AFB7-1B668497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B585-7985-4482-8684-2D1EA16C473C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67C4-6DEB-4E53-8CE3-913A08854CC5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b9efee"/>
                </a:solidFill>
                <a:latin typeface="Garamond"/>
              </a:rPr>
              <a:t>KARŞILAŞILAN HATALI UYGULAMALAR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Garamond"/>
              </a:rPr>
              <a:t>Sabunlukların boşalınca direk doldurulması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Garamond"/>
              </a:rPr>
              <a:t>Yere kan ya da herhangi bir hasta çıkartısı bulaştığında paspas yapılması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Garamond"/>
              </a:rPr>
              <a:t>Çöp toplarken eldivenlerle kapı kollarına dokunulması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Garamond"/>
              </a:rPr>
              <a:t>Temizlikte temizden kirliye ilkesine uyulmadan öncelikle enfekte hastanın odasının temizlenmes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Dezenfektanların ölçülmeden göz kararı kullanılmas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Temizlik kovalarına koyulacak suların ölçülmeksizin koyulmas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Hasta bakım ortamında kuru süpürme işleminin yapılmas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Tuvaletlerde dezenfektan kullanım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Tuvaletlerde antiseptik sabun kullanım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Eldivenlerin amaç dışı kullanımı (poşet eldiven, kırmızı ve sarı eldivenle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Temizlikte deterjan ve dezenfektanların karıştırılması( çamaşır suyu+ovucu ya da genel temizlik maddesi+klor table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Dezenfektanları yanlış kullan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Temizlikte odalar arası ya da bölümler arası su değişiminin yapılmamas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Temizlik sonrası ya da gün bitiminde temizlik malzemelerinin kirli ve ıslak bırakılmas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Kirli çarşaf ve giysilerin yerlere atılmas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Kirli çarşafların poşete konulmaksızın kucakta taşınmas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if KIRBAŞ</dc:creator>
  <dc:description/>
  <dc:language>en-US</dc:language>
  <cp:lastModifiedBy>Elif KIRBAŞ</cp:lastModifiedBy>
  <dcterms:modified xsi:type="dcterms:W3CDTF">2020-08-08T20:15:2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