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B7-6BB5-4CD2-85DE-6497734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993-59AD-41A3-93E0-7BCD93E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59B-7CE4-43F0-86DE-FFF3AB58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44B-2BB3-477D-8D9A-B2DDAB2B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8EF-E536-4DE7-B8E6-B5139108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0D2-7954-4660-B8AE-9C5619C1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749-CB56-4A7B-9D84-871B59F9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FD80-4BBF-4915-8A40-55A8FFB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FA00-3CB2-41D1-98C8-FE0D6C56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A37E-1397-4D5D-86FB-917D3075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859B-D29F-435B-BDCF-84D4DC8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A60-B36F-405A-AAFE-DC1063E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E5D4-BE89-404D-B9D0-8F46F07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114B-24DD-4250-9B9E-B33D68D5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9E01-5D06-4C0E-99C6-394F7E0F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CECF-E74E-4C5F-AFE1-B39F7969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C0D6-CAC2-4072-9205-6F9F7493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E46-3562-4D04-AF98-50C7F033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C7A-2975-4D87-9814-B2F13D1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8DD-DB15-4446-A1DE-A5846DE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805-5F62-4559-8B20-703C4FC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E03-337F-475F-9409-9840685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D51-5B53-44C1-9CC9-12A7A27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B6B-12BC-4757-BEAD-6D107B9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22AB-45DB-42B5-9FF8-34B793F88F5A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8B17-DD0B-43F1-AD7B-C9198981D2DB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KİŞİSEL HİJYEN</a:t>
            </a:r>
            <a:endParaRPr b="0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ODORANT KULLANILMALI AĞIR PARFÜMLERDEN KAÇI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L BAKIMI YAPIL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ÜNİFORMA TEMİZ VE ÜTÜLÜ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ÖKÜK, YIRTIK, SOLMUŞ, LEKELİ, DÜĞMESİZ VB. O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İSİM ARMALARI YAZILMIŞ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AHAT ÇALIŞMA İMKANI VEREN ÜNİFORMA GİY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İMA YEDEK ÜNİFORMA BULUNDURU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 BAKIMI VE TEMİZLİĞİNE ÖZEN GÖSTERİLMELİDİ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AZ GÜNDE BİR KEZ YIKAN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TA MANTAR AŞIRI TERLEME VE KOKU OLURSA MUTLAKA TEDAVİ ETTİRİLMELİDİR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2203560"/>
            <a:ext cx="3600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65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ÇORAPLAR HERGÜN DEĞİŞTİR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YGUN VE RAHAT BİR AYAKKABI GİYİLMELİDİ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LİKLER DÜZENLİ OLARAK TEMİZLENMELİ VE BOYA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RTIK VE SÖKÜK TERLİKLER KULLANILMA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8160" y="2205000"/>
            <a:ext cx="2355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LAR DÜZENLİ VE TEMİZ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ŞKALARINA AİT TOKA, TARAK VE FIRÇA 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 KILLARININ DÖKÜLMEMESİ VE DAĞINIK GÖZÜKMEMESİ İÇİN SAÇLAR BONE İÇERSİNE ALI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386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VE TAKILARA DİKKAT EDİLMELİDİR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MALZEMELRİ AŞIRIYA KAÇMADAN KULLANILMALIDI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KÜNYE, YÜZÜK, HIZMA VB. ZİYNET EŞYALARI TAKILMA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ÜCUTTA AŞIRI TERLEME VAR İSE KÖTÜ KOKMAMAK İÇİN TERLEYEN KISIMLAR SABUNLU BEZ İLE SİLİNİP DURULANMALI VE KURULAN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ERLEMEYİ AZALTAN KREM VE DEODORANTLAR KULLA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İJY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ir sağlık bilimi olup, temel ilgi alanı sağlığın korunması ve sürdürülmesidi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İŞİSEL HİJY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işilerin kendi sağlığını korudukları ve devam ettirdikleri  öz bakım uygulamalarıdır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şisel temizlik, sağlıkla yakından ilgi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 çok hastalık mikrobunun temiz olmayan kişilerde kolayca yerleştiği bilinmekte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ğlığın korunması için düzenli bir şekild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ç, vücut, ağız ve dişlerimizin temizlenmesi ve giyeceklerin sık yıkanması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gerek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salgılarının, atıklarının ve geçici mikroorganizmaların vücuttan uzaklaştırılması yoluyla temizliği sağla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eyin rahatlamasını, dinlenmesini, gevşemesini ve kas gerilimini azalt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taki kötü kokuları (ter kokusu) giderme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yin genel görünümünü olumlu hale getirmek, kendine olan güvenini arttırm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 Tur"/>
              </a:rPr>
              <a:t>KİŞİSEL HİJYEN KURALL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89744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TEMİZLİĞİ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K SIK DUŞ ALINMALI BANYO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Ç ÇAMAŞIRLAR SIKLIKLA DEĞİTİRİLMELİDİ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1154200">
            <a:off x="4500360" y="2219040"/>
            <a:ext cx="4643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RNAKLA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TILMAMALI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TAZAM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İR ŞEKİLDE KESİLMELİDİ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YU RENK OJE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538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114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AĞIZ HİJYENİ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637236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AĞIZ VE DİŞ BAKIMI DÜZENLİ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YAPILMALI AĞIZ İÇERiSİNDE VE DIŞINDA ÇIKAN YARALAR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ÇÜRÜK VB. DİŞLER HOŞ OLMAYAN NEFES KOKUSUNU GİDERMEK İÇİN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5240" y="404640"/>
            <a:ext cx="2768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2:22:26Z</dcterms:created>
  <dc:creator>EXPER</dc:creator>
  <dc:description/>
  <dc:language>en-US</dc:language>
  <cp:lastModifiedBy>ebru.ertuna</cp:lastModifiedBy>
  <cp:lastPrinted>2004-03-16T10:27:57Z</cp:lastPrinted>
  <dcterms:modified xsi:type="dcterms:W3CDTF">2014-07-09T08:04:53Z</dcterms:modified>
  <cp:revision>51</cp:revision>
  <dc:subject/>
  <dc:title>KİŞİSEL HİJYEN</dc:title>
</cp:coreProperties>
</file>